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2F4B-FEAC-4147-AF75-593BC674B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8178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600" y="3686760"/>
            <a:ext cx="8178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9605-EE1F-42B9-953F-E77821619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760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836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E799-0685-4360-BF37-829E7893D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3120" y="12189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8640" y="12189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7600" y="36867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3120" y="36867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8640" y="36867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8ECC-D8CC-4002-B28C-8B650EF6C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C1C0-0D33-4AD6-A280-E67CEE9D25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7600" y="12189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84A4-2EF4-458F-A376-9733AFEA45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094A-2CF8-4876-84FF-E16D37FC92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E850-7198-45C9-A05B-EB8CDEC31A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E016-7BF2-4F49-B006-E1DB2244D9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D8EC-E45C-4633-924A-9E05E15010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60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50A4-7394-49DC-8818-57DC7DBCAA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7600" y="12189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D239-56F6-452A-9B0D-094EDF2E9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9836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3234-7083-47B4-BEC7-8E1DFEB95B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7600" y="3686760"/>
            <a:ext cx="8178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3A55-ADCA-4037-9614-DD313326AB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8178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600" y="3686760"/>
            <a:ext cx="8178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15AD-3622-4EDD-A82F-696A7A4B8D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60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9836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9AB0-24BD-4F80-B926-9097481FEE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3120" y="12189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8640" y="12189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600" y="36867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3120" y="36867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8640" y="3686760"/>
            <a:ext cx="2633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9334-D56B-4582-AED0-3D78C09075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CD3F-8B8C-4A9A-BFFE-0F431D0A5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85B8F-06BB-4B93-B456-12E168912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DC3E-589C-479E-9342-88B96E5FC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F387-F641-4927-B92D-164FA8711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760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8D57-3080-41B9-836E-96A9F8FA4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8360" y="36867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81F8-E821-4F7F-80DD-18A71A974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760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8360" y="1218960"/>
            <a:ext cx="39909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7600" y="3686760"/>
            <a:ext cx="81788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1395-AD7E-41BF-B827-9BE300A0E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981760"/>
            <a:ext cx="9156600" cy="88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07600" y="12189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spcBef>
                <a:spcPts val="601"/>
              </a:spcBef>
              <a:buClr>
                <a:srgbClr val="ff66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28600">
              <a:spcBef>
                <a:spcPts val="601"/>
              </a:spcBef>
              <a:buClr>
                <a:srgbClr val="ff9933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89120" indent="-228600">
              <a:spcBef>
                <a:spcPts val="601"/>
              </a:spcBef>
              <a:buClr>
                <a:srgbClr val="ffcc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08160" indent="-228600">
              <a:spcBef>
                <a:spcPts val="601"/>
              </a:spcBef>
              <a:buClr>
                <a:srgbClr val="ffcc00"/>
              </a:buClr>
              <a:buSzPct val="59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SzPct val="59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SzPct val="59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077320" y="640044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99E7-355A-43E4-B858-53CD8C9069FE}" type="slidenum">
              <a:rPr b="0" lang="ko-KR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33520" y="685800"/>
            <a:ext cx="8242200" cy="396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76320" y="6234120"/>
            <a:ext cx="8928000" cy="179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295280" y="1066680"/>
            <a:ext cx="785196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177480" y="6229080"/>
            <a:ext cx="104148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7DAD-DD2B-4940-97F2-D77F759D949F}" type="slidenum">
              <a:rPr b="0" lang="ko-KR" sz="10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hangri-la.com/eng/hotel/35/index.htm" TargetMode="External"/><Relationship Id="rId2" Type="http://schemas.openxmlformats.org/officeDocument/2006/relationships/hyperlink" Target="http://www.shangri-la.com/eng/hotel/35/index.htm" TargetMode="External"/><Relationship Id="rId3" Type="http://schemas.openxmlformats.org/officeDocument/2006/relationships/hyperlink" Target="http://www.shangri-la.com/eng/hotel/35/index.htm" TargetMode="External"/><Relationship Id="rId4" Type="http://schemas.openxmlformats.org/officeDocument/2006/relationships/hyperlink" Target="http://www.iacr.org/" TargetMode="External"/><Relationship Id="rId5" Type="http://schemas.openxmlformats.org/officeDocument/2006/relationships/hyperlink" Target="http://www.iacr.org/" TargetMode="External"/><Relationship Id="rId6" Type="http://schemas.openxmlformats.org/officeDocument/2006/relationships/hyperlink" Target="http://www.iacr.org/" TargetMode="External"/><Relationship Id="rId7" Type="http://schemas.openxmlformats.org/officeDocument/2006/relationships/hyperlink" Target="http://www.ipkc.org/" TargetMode="External"/><Relationship Id="rId8" Type="http://schemas.openxmlformats.org/officeDocument/2006/relationships/hyperlink" Target="http://www.ipkc.org/" TargetMode="External"/><Relationship Id="rId9" Type="http://schemas.openxmlformats.org/officeDocument/2006/relationships/hyperlink" Target="http://www.ipkc.org/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Black"/>
              </a:rPr>
              <a:t>PKC2004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33540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760" indent="-320760"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5e574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5e574e"/>
                </a:solidFill>
                <a:latin typeface="Arial"/>
              </a:rPr>
              <a:t>Kwangjo K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2800" spc="-1" strike="noStrike">
                <a:solidFill>
                  <a:srgbClr val="5e574e"/>
                </a:solidFill>
                <a:latin typeface="Arial"/>
              </a:rPr>
              <a:t>ICU, Ko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9720" y="1584360"/>
            <a:ext cx="804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0760" indent="-320760">
              <a:lnSpc>
                <a:spcPct val="100000"/>
              </a:lnSpc>
              <a:buClr>
                <a:srgbClr val="5e574e"/>
              </a:buClr>
              <a:buFont typeface="Arial"/>
              <a:buChar char="-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400" spc="-1" strike="noStrike">
                <a:solidFill>
                  <a:srgbClr val="5e574e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5e574e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5e574e"/>
                </a:solidFill>
                <a:latin typeface="Arial"/>
              </a:rPr>
              <a:t> International Workshop on Practice and Theory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2400" spc="-1" strike="noStrike">
                <a:solidFill>
                  <a:srgbClr val="5e574e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5e574e"/>
                </a:solidFill>
                <a:latin typeface="Arial"/>
              </a:rPr>
              <a:t>Public Key Crypt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1970-929C-431F-A462-7E426245A8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Black"/>
              </a:rPr>
              <a:t>Call-for-Attendance</a:t>
            </a:r>
            <a:endParaRPr b="0" lang="en-US" sz="3600" spc="-1" strike="noStrike">
              <a:solidFill>
                <a:srgbClr val="0033cc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Organized by : Institute for Infocomm 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Venue :  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1"/>
              </a:rPr>
              <a:t>Shangri-La’s Rasa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2"/>
              </a:rPr>
              <a:t> Sentosa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3"/>
              </a:rPr>
              <a:t> Res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, Singapo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te   :  Mar. 1 - 4, 2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2nd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 sponsored by IAC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Early registration : Jan. 15, 200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32 papers from 106 submissions (acceptance rate : 30%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98, Feb. 5-6, Yokohama, Jap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99, Mar. 1-3, Kamakura, Jap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00, Jan. 18-20, Melbourne, Austra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01, Feb, 13-15, Jeju, Ko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02, Feb. 12-14, Paris, F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03, Jan.  6-8, Florida, USA 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바탕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PKC by IAC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 algn="just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PKC’05, Jan. 23-26, Les Diablerets, Switzerl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Web page : 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4"/>
              </a:rPr>
              <a:t>http://www.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5"/>
              </a:rPr>
              <a:t>iacr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6"/>
              </a:rPr>
              <a:t>.o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바탕"/>
              </a:rPr>
              <a:t> or 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7"/>
              </a:rPr>
              <a:t>http://www.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8"/>
              </a:rPr>
              <a:t>ipkc</a:t>
            </a:r>
            <a:r>
              <a:rPr b="1" lang="en-US" sz="1800" spc="-1" strike="noStrike" u="sng">
                <a:solidFill>
                  <a:srgbClr val="996633"/>
                </a:solidFill>
                <a:uFillTx/>
                <a:latin typeface="Arial"/>
                <a:ea typeface="바탕"/>
                <a:hlinkClick r:id="rId9"/>
              </a:rPr>
              <a:t>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79DD-27FB-43AE-BEAA-21DCBA5A74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09:01:31Z</dcterms:created>
  <dc:creator>Marie-pierre Escalant</dc:creator>
  <dc:description/>
  <dc:language>en-US</dc:language>
  <cp:lastModifiedBy>CAIS Lab</cp:lastModifiedBy>
  <cp:lastPrinted>2000-01-02T08:12:06Z</cp:lastPrinted>
  <dcterms:modified xsi:type="dcterms:W3CDTF">2003-12-02T02:51:26Z</dcterms:modified>
  <cp:revision>194</cp:revision>
  <dc:subject/>
  <dc:title>Here is the wireless wor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smartcardforum.org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M:\scf\meetings\1998-99\February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