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6.gif" ContentType="image/gi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F810-0BC9-4FBC-AEE7-778C27B62C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 opening the ballot, it was found that President. Noh was retur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B00-7310-4521-B677-109311AA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7E0-034C-41E4-B367-27CA1ACE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562-15F4-419D-9A9A-71529D85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E33D-83AE-4652-8E35-0CF84178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5C3-EDFA-46E9-848F-FA58490A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374-40DD-4034-AF20-AAFF3B6C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38C-6950-41E8-B778-00E52CF6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C7E-AFD2-489A-B347-8D3B27EE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5AD-D340-4A7B-9230-07F8892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7F5-2D2D-4600-B83A-A3E8E4F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E6C-E470-4C02-A265-34621D38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E20-C257-413B-A270-A5676416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7640" y="5445000"/>
            <a:ext cx="4716360" cy="1413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7752-D6E4-4419-96C7-C7FB64D0D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4716360" cy="1557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8360" y="404640"/>
            <a:ext cx="5543640" cy="28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276720" y="4149720"/>
            <a:ext cx="5543280" cy="23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708360" y="42926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KURAI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520" y="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YUSHU UNIV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</a:rPr>
              <a:t>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93388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KURAI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2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7280" y="981000"/>
            <a:ext cx="741708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Current State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rea and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2637000"/>
            <a:ext cx="3600360" cy="792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acrypt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m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7920" y="44370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yushu Univ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ng-Sork HER, Kouichi SAKU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3840" y="333360"/>
            <a:ext cx="877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arison of Korea and Japan In re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71928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1640" y="1341360"/>
            <a:ext cx="576360" cy="935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27640" y="1413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280" y="90504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3860640"/>
            <a:ext cx="8388360" cy="0"/>
          </a:xfrm>
          <a:prstGeom prst="line">
            <a:avLst/>
          </a:prstGeom>
          <a:ln w="381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84280"/>
            <a:ext cx="1403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65720"/>
            <a:ext cx="14032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68720" y="9079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7440" y="907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3213000"/>
            <a:ext cx="46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6000" y="27082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per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1297080" cy="1208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03280" y="595008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7080" y="551808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per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6360" y="321300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89080" y="278136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-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5877000"/>
            <a:ext cx="4105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000" y="5445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-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24360" y="4076640"/>
            <a:ext cx="4013280" cy="1081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1280" y="6400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826920" y="2421000"/>
            <a:ext cx="7704000" cy="792000"/>
            <a:chOff x="826920" y="2421000"/>
            <a:chExt cx="7704000" cy="792000"/>
          </a:xfrm>
        </p:grpSpPr>
        <p:sp>
          <p:nvSpPr>
            <p:cNvPr id="178" name=""/>
            <p:cNvSpPr/>
            <p:nvPr/>
          </p:nvSpPr>
          <p:spPr>
            <a:xfrm>
              <a:off x="826920" y="2421000"/>
              <a:ext cx="7704000" cy="792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18160" y="2565360"/>
              <a:ext cx="719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E-voting will be realized in the futur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902880" y="692280"/>
            <a:ext cx="29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195640" y="3355920"/>
            <a:ext cx="4104720" cy="3501720"/>
            <a:chOff x="2195640" y="3355920"/>
            <a:chExt cx="4104720" cy="350172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2195640" y="4670280"/>
              <a:ext cx="202536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168080" y="3355920"/>
              <a:ext cx="2132280" cy="1731600"/>
            </a:xfrm>
            <a:prstGeom prst="wedgeEllipseCallout">
              <a:avLst>
                <a:gd name="adj1" fmla="val -85814"/>
                <a:gd name="adj2" fmla="val 26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 thin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61280" y="6400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atest voting rat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ko-K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A general election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2817720"/>
            <a:ext cx="3240000" cy="7192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2744640"/>
            <a:ext cx="3240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280" y="4113360"/>
            <a:ext cx="30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: Nov. 9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ing ra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59.86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360" y="411336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: April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3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ing rat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57.2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lectronic-Vo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13000"/>
            <a:ext cx="820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the losses by the conventional vo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 Network and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yptography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ast  voting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it is realized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me–voting, Convenient place-voting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8000" y="2708280"/>
            <a:ext cx="3311640" cy="2087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8880" y="4797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From The Chosun Il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6064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Automatic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42400" y="2852640"/>
            <a:ext cx="5604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In 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idential-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io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of 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&lt; Dec.,19, 2002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Reduction of counting tim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opening bal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kayama on 23, June (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ii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ty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: A mayoral and a municip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64360" y="2924280"/>
            <a:ext cx="1150920" cy="896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8880" y="5950080"/>
            <a:ext cx="40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uch panel metho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ke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tomated-teller Machine) of BA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39640" y="3141720"/>
            <a:ext cx="329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voter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tee voter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71640" y="3500280"/>
            <a:ext cx="2241360" cy="2449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164360" y="458136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6040" y="669960"/>
            <a:ext cx="78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pan election law in Okayama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889560" y="1413000"/>
            <a:ext cx="7930440" cy="2086920"/>
            <a:chOff x="889560" y="1413000"/>
            <a:chExt cx="7930440" cy="2086920"/>
          </a:xfrm>
        </p:grpSpPr>
        <p:sp>
          <p:nvSpPr>
            <p:cNvPr id="84" name=""/>
            <p:cNvSpPr/>
            <p:nvPr/>
          </p:nvSpPr>
          <p:spPr>
            <a:xfrm>
              <a:off x="900000" y="1413000"/>
              <a:ext cx="2232000" cy="383760"/>
            </a:xfrm>
            <a:prstGeom prst="rect">
              <a:avLst/>
            </a:prstGeom>
            <a:gradFill rotWithShape="0">
              <a:gsLst>
                <a:gs pos="0">
                  <a:srgbClr val="ff6600">
                    <a:alpha val="40000"/>
                  </a:srgbClr>
                </a:gs>
                <a:gs pos="50000">
                  <a:srgbClr val="ffffff"/>
                </a:gs>
                <a:gs pos="100000">
                  <a:srgbClr val="ff6600">
                    <a:alpha val="4000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1796760"/>
              <a:ext cx="7920000" cy="170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9560" y="1413000"/>
              <a:ext cx="7893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eces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 </a:t>
              </a:r>
              <a:r>
                <a:rPr b="1" lang="ja-JP" sz="2000" spc="-1" strike="noStrike">
                  <a:solidFill>
                    <a:srgbClr val="0000ff"/>
                  </a:solidFill>
                  <a:latin typeface="Arial"/>
                </a:rPr>
                <a:t>Japan election law</a:t>
              </a:r>
              <a:r>
                <a:rPr b="0" lang="ja-JP" sz="2000" spc="-1" strike="noStrike">
                  <a:solidFill>
                    <a:srgbClr val="0000ff"/>
                  </a:solidFill>
                  <a:latin typeface="Arial"/>
                </a:rPr>
                <a:t> :</a:t>
              </a:r>
              <a:r>
                <a:rPr b="0" lang="ja-JP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f an absentee voter died or the loss of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the right of cast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the ballot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before Election Day,  the ballot becom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    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n </a:t>
              </a:r>
              <a:r>
                <a:rPr b="1" i="1" lang="ja-JP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invalid ballot</a:t>
              </a:r>
              <a:r>
                <a:rPr b="1" i="1" lang="ja-JP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900000" y="3716280"/>
            <a:ext cx="7561080" cy="2690640"/>
            <a:chOff x="900000" y="3716280"/>
            <a:chExt cx="7561080" cy="2690640"/>
          </a:xfrm>
        </p:grpSpPr>
        <p:sp>
          <p:nvSpPr>
            <p:cNvPr id="88" name=""/>
            <p:cNvSpPr/>
            <p:nvPr/>
          </p:nvSpPr>
          <p:spPr>
            <a:xfrm>
              <a:off x="900000" y="4125240"/>
              <a:ext cx="7561080" cy="228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33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An Amendment of Japan</a:t>
              </a:r>
              <a:r>
                <a:rPr b="1" lang="ja-JP" sz="2000" spc="-1" strike="noStrike">
                  <a:solidFill>
                    <a:srgbClr val="ff3300"/>
                  </a:solidFill>
                  <a:latin typeface="Arial"/>
                </a:rPr>
                <a:t>’s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 election law</a:t>
              </a:r>
              <a:r>
                <a:rPr b="1" lang="ja-JP" sz="2000" spc="-1" strike="noStrike">
                  <a:solidFill>
                    <a:srgbClr val="ff3300"/>
                  </a:solidFill>
                  <a:latin typeface="Arial"/>
                </a:rPr>
                <a:t> (4. June,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Although an absentee voter died before election day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the ballot is </a:t>
              </a:r>
              <a:r>
                <a:rPr b="1" lang="ja-JP" sz="2400" spc="-1" strike="noStrike" u="sng">
                  <a:solidFill>
                    <a:srgbClr val="ff3300"/>
                  </a:solidFill>
                  <a:uFillTx/>
                  <a:latin typeface="Arial"/>
                </a:rPr>
                <a:t>a valid ballot.</a:t>
              </a:r>
              <a:r>
                <a:rPr b="1" lang="ja-JP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716280"/>
              <a:ext cx="2672640" cy="4320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-voting 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4653000"/>
            <a:ext cx="1008000" cy="977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1209600" cy="81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948360" y="4076640"/>
            <a:ext cx="1436760" cy="1569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9640" y="57340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90520" y="2924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 IC-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44000" y="270828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 the IC c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voting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09440" y="57340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979640" y="3499920"/>
            <a:ext cx="0" cy="100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2349360"/>
            <a:ext cx="252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51640" y="3500280"/>
            <a:ext cx="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211640" y="4797360"/>
            <a:ext cx="1185840" cy="889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5508360" y="515772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5080" y="58053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e the contents of v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851280" y="2637000"/>
            <a:ext cx="1511280" cy="165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4716360" y="429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ysis of Japan‘s e-vo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341360"/>
            <a:ext cx="280836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1341360"/>
            <a:ext cx="237672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xisted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94 (Paper-vo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1341360"/>
            <a:ext cx="2520720" cy="7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lectronic 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2206800"/>
            <a:ext cx="2808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3-voting 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2206800"/>
            <a:ext cx="2376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206800"/>
            <a:ext cx="252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8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998800"/>
            <a:ext cx="280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ing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998800"/>
            <a:ext cx="23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0" y="2998800"/>
            <a:ext cx="25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8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3430440"/>
            <a:ext cx="280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ssion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入会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5280" y="3430440"/>
            <a:ext cx="2376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430440"/>
            <a:ext cx="25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4006800"/>
            <a:ext cx="280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ci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4006800"/>
            <a:ext cx="2376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hours 2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4006800"/>
            <a:ext cx="2520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4870440"/>
            <a:ext cx="280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 bal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ci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4870440"/>
            <a:ext cx="2376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4870440"/>
            <a:ext cx="2520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5734080"/>
            <a:ext cx="280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5734080"/>
            <a:ext cx="23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2.0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5734080"/>
            <a:ext cx="25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.8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6094440"/>
            <a:ext cx="280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io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6094440"/>
            <a:ext cx="23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11,6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6094440"/>
            <a:ext cx="252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16,46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ysis of Japan ‘s e-vot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700280"/>
            <a:ext cx="2087640" cy="1512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87640" y="1700280"/>
            <a:ext cx="5616720" cy="693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votes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2421000"/>
            <a:ext cx="288144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 General v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2421000"/>
            <a:ext cx="2808360" cy="79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Absentee v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3213000"/>
            <a:ext cx="2087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3213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8.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6000" y="3213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9.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716280"/>
            <a:ext cx="2087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716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716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4221000"/>
            <a:ext cx="2087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4221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6000" y="4221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3.3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724280"/>
            <a:ext cx="2087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didat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4724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6000" y="4724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6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5300640"/>
            <a:ext cx="208764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5300640"/>
            <a:ext cx="28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4,966 pers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6000" y="5300640"/>
            <a:ext cx="28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1719 pers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920" y="6400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8:18:44Z</dcterms:created>
  <dc:creator> </dc:creator>
  <dc:description/>
  <dc:language>en-US</dc:language>
  <cp:lastModifiedBy> </cp:lastModifiedBy>
  <dcterms:modified xsi:type="dcterms:W3CDTF">2003-12-12T07:05:47Z</dcterms:modified>
  <cp:revision>18</cp:revision>
  <dc:subject/>
  <dc:title>スライド 1</dc:title>
</cp:coreProperties>
</file>