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F6A5-485D-4046-A919-B3A4DC295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76D9-B62F-469E-BF1A-6117BA43E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3406-278F-4559-BDEF-CC4A300ED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312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864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60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312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864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9FFB-D6C9-425C-9BDB-AC9467C38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13EB-05FA-4485-B21B-2CD3A3F3E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6C17-5635-45EC-883B-B877276FB0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E6DB-AAE3-40C1-B0FB-8407527C79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9CBB-ADFE-44BD-9705-3B924D717C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05B8-FDA9-43EB-9ECB-804A505BFB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8E96-AE9B-4FFE-ACD7-A9EAA984C4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F6DF-226E-4A0E-BE2A-81D67CD28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4702-CD4B-46C3-937A-3169C974C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0936-1FB9-4B3A-B4C0-83082678F5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D2DA-C941-4DEB-B04C-594F5EA667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E1C3-C5A2-433A-AF00-D436C860C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36CD-9CA1-498A-8B62-41883D9D8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312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864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60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312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864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A219-A431-4EC9-AC45-3BB3EA739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5A9A-127B-4403-8E3C-8B74EC489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51FC-B5F1-48F5-8E96-67A6536D8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6B45-73E4-4A77-B0FE-F51D66836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80E-4118-47CC-8D97-5BFDD57C1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A434-A0E8-45D9-86B5-D15AB87F7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F485-B9ED-42C8-9549-561DDAEF0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DA25-702C-49B5-AB9B-84B4135B1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56600" cy="88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buClr>
                <a:srgbClr val="ff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9120" indent="-228600">
              <a:spcBef>
                <a:spcPts val="601"/>
              </a:spcBef>
              <a:buClr>
                <a:srgbClr val="ff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08160" indent="-228600">
              <a:spcBef>
                <a:spcPts val="601"/>
              </a:spcBef>
              <a:buClr>
                <a:srgbClr val="ffcc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7320" y="640044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C90-9D07-4F33-A452-F04AED2887AF}" type="slidenum">
              <a:rPr b="0" lang="ko-KR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8242200" cy="396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6320" y="6234120"/>
            <a:ext cx="8928000" cy="17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295280" y="1066680"/>
            <a:ext cx="785196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177480" y="6229080"/>
            <a:ext cx="104148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136C-B64F-4900-9136-C52511F4CDDA}" type="slidenum">
              <a:rPr b="0" lang="ko-KR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angri-la.com/eng/hotel/35/index.htm" TargetMode="External"/><Relationship Id="rId2" Type="http://schemas.openxmlformats.org/officeDocument/2006/relationships/hyperlink" Target="http://www.shangri-la.com/eng/hotel/35/index.htm" TargetMode="External"/><Relationship Id="rId3" Type="http://schemas.openxmlformats.org/officeDocument/2006/relationships/hyperlink" Target="http://www.shangri-la.com/eng/hotel/35/index.htm" TargetMode="External"/><Relationship Id="rId4" Type="http://schemas.openxmlformats.org/officeDocument/2006/relationships/hyperlink" Target="http://www.iacr.org/" TargetMode="External"/><Relationship Id="rId5" Type="http://schemas.openxmlformats.org/officeDocument/2006/relationships/hyperlink" Target="http://www.iacr.org/" TargetMode="External"/><Relationship Id="rId6" Type="http://schemas.openxmlformats.org/officeDocument/2006/relationships/hyperlink" Target="http://www.iacr.org/" TargetMode="External"/><Relationship Id="rId7" Type="http://schemas.openxmlformats.org/officeDocument/2006/relationships/hyperlink" Target="http://www.ipkc.org/" TargetMode="External"/><Relationship Id="rId8" Type="http://schemas.openxmlformats.org/officeDocument/2006/relationships/hyperlink" Target="http://www.ipkc.org/" TargetMode="External"/><Relationship Id="rId9" Type="http://schemas.openxmlformats.org/officeDocument/2006/relationships/hyperlink" Target="http://www.ipkc.org/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PKC2004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33540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Kwangjo 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ICU, Ko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720" y="1584360"/>
            <a:ext cx="80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>
              <a:lnSpc>
                <a:spcPct val="100000"/>
              </a:lnSpc>
              <a:buClr>
                <a:srgbClr val="5e574e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5e574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 International Workshop on Practice and Theory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Public Key Cryp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AE07-9D88-4CBD-9E1F-E9FA1346C9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all-for-Attendance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Organized by : Institute for Infocomm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Venue : 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1"/>
              </a:rPr>
              <a:t>Shangri-La’s Rasa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2"/>
              </a:rPr>
              <a:t> Sentosa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3"/>
              </a:rPr>
              <a:t> Res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, Singapo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e   :  Mar. 1 - 4,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2nd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 sponsored by IAC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arly registration : Jan. 15,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32 papers from 106 submissions (acceptance rate : 3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98, Feb. 5-6, Yokohama, Ja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99, Mar. 1-3, Kamakura, Ja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0, Jan. 18-20, Melbourne, Austra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1, Feb, 13-15, Jeju, Ko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2, Feb. 12-14, Paris, 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3, Jan.  6-8, Florida, USA 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바탕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PKC by IAC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5, Jan. 23-26, Les Diablerets, Switzerl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Web page :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4"/>
              </a:rPr>
              <a:t>http://www.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5"/>
              </a:rPr>
              <a:t>iacr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6"/>
              </a:rPr>
              <a:t>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or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7"/>
              </a:rPr>
              <a:t>http://www.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8"/>
              </a:rPr>
              <a:t>ipkc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9"/>
              </a:rPr>
              <a:t>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BAB9-3450-41AE-87E7-7092D4E96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9:01:31Z</dcterms:created>
  <dc:creator>Marie-pierre Escalant</dc:creator>
  <dc:description/>
  <dc:language>en-US</dc:language>
  <cp:lastModifiedBy>CAIS Lab</cp:lastModifiedBy>
  <cp:lastPrinted>2000-01-02T08:12:06Z</cp:lastPrinted>
  <dcterms:modified xsi:type="dcterms:W3CDTF">2003-12-02T02:51:26Z</dcterms:modified>
  <cp:revision>194</cp:revision>
  <dc:subject/>
  <dc:title>Here is the wireless wor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martcardforum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M:\scf\meetings\1998-99\February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