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08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80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936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08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80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6640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08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80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936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08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80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6640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851040" indent="-317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27008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89120" indent="-228600">
              <a:spcBef>
                <a:spcPts val="799"/>
              </a:spcBef>
              <a:buClr>
                <a:srgbClr val="0033cc"/>
              </a:buClr>
              <a:buSzPct val="12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108160" indent="-228600">
              <a:spcBef>
                <a:spcPts val="799"/>
              </a:spcBef>
              <a:buClr>
                <a:srgbClr val="ff0000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108160" indent="-228600">
              <a:spcBef>
                <a:spcPts val="799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108160" indent="-228600">
              <a:spcBef>
                <a:spcPts val="799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787320" y="107964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3" name="barre%20JMG" descr=""/>
          <p:cNvPicPr/>
          <p:nvPr/>
        </p:nvPicPr>
        <p:blipFill>
          <a:blip r:embed="rId3"/>
          <a:stretch/>
        </p:blipFill>
        <p:spPr>
          <a:xfrm>
            <a:off x="1536840" y="6310440"/>
            <a:ext cx="7454880" cy="139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362320" y="646740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20760" indent="-320760" algn="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Almost uniform density of power residues and the security proof of ESIGN. </a:t>
            </a:r>
            <a:r>
              <a:rPr b="0" lang="fr-FR" sz="1200" spc="-1" strike="noStrike">
                <a:solidFill>
                  <a:srgbClr val="0000a8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 </a:t>
            </a:r>
            <a:fld id="{6F4A8A4D-83B7-4B94-B97F-B354283A7827}" type="slidenum">
              <a:rPr b="0" lang="en-US" sz="1200" spc="-1" strike="noStrike">
                <a:solidFill>
                  <a:srgbClr val="0000a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5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20760" indent="-320760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Jacques Stern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2960" y="501480"/>
            <a:ext cx="8077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8"/>
                </a:solidFill>
                <a:latin typeface="Arial"/>
              </a:rPr>
              <a:t>Almost uniform density of power residues and the provable security of ESIG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765040"/>
            <a:ext cx="28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8"/>
                </a:solidFill>
                <a:latin typeface="Arial"/>
              </a:rPr>
              <a:t>Jacques Ster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4" name="logoENS_" descr=""/>
          <p:cNvPicPr/>
          <p:nvPr/>
        </p:nvPicPr>
        <p:blipFill>
          <a:blip r:embed="rId2"/>
          <a:stretch/>
        </p:blipFill>
        <p:spPr>
          <a:xfrm>
            <a:off x="6076800" y="5095800"/>
            <a:ext cx="2121120" cy="176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6800" y="3047760"/>
            <a:ext cx="33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a8"/>
                </a:solidFill>
                <a:latin typeface="Arial"/>
              </a:rPr>
              <a:t>ASIACRYPT 2003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a8"/>
                </a:solidFill>
                <a:latin typeface="Arial"/>
              </a:rPr>
              <a:t>December 3rd 2003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280" y="628416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a8"/>
                </a:solidFill>
                <a:latin typeface="Arial"/>
              </a:rPr>
              <a:t>École normale supérieur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5000" y="45759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8"/>
                </a:solidFill>
                <a:latin typeface="Arial"/>
              </a:rPr>
              <a:t>Tatsuaki Okamoto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560" y="50950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a8"/>
                </a:solidFill>
                <a:latin typeface="Arial"/>
              </a:rPr>
              <a:t>NTT Lab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14400" indent="127080" algn="ctr">
              <a:spcBef>
                <a:spcPts val="601"/>
              </a:spcBef>
              <a:buClr>
                <a:srgbClr val="0000cc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371600" indent="88920" algn="ctr">
              <a:spcBef>
                <a:spcPts val="499"/>
              </a:spcBef>
              <a:buClr>
                <a:srgbClr val="0033cc"/>
              </a:buClr>
              <a:buSzPct val="12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828800" indent="50760" algn="ctr">
              <a:spcBef>
                <a:spcPts val="451"/>
              </a:spcBef>
              <a:buClr>
                <a:srgbClr val="ff0000"/>
              </a:buClr>
              <a:buSzPct val="140000"/>
              <a:buFont typeface="Wingding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5" marL="1828800" indent="50760">
              <a:spcBef>
                <a:spcPts val="451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6" marL="1828800" indent="50760">
              <a:spcBef>
                <a:spcPts val="451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ignature Scheme (formal)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Key Generation Algorithm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gnature Algorithm,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erification Algorithm,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829520" y="2819520"/>
            <a:ext cx="6318720" cy="2438280"/>
            <a:chOff x="1829520" y="2819520"/>
            <a:chExt cx="6318720" cy="2438280"/>
          </a:xfrm>
        </p:grpSpPr>
        <p:sp>
          <p:nvSpPr>
            <p:cNvPr id="126" name=""/>
            <p:cNvSpPr/>
            <p:nvPr/>
          </p:nvSpPr>
          <p:spPr>
            <a:xfrm>
              <a:off x="6483600" y="2819520"/>
              <a:ext cx="41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a8"/>
                  </a:solidFill>
                  <a:latin typeface="Arial"/>
                </a:rPr>
                <a:t>k</a:t>
              </a:r>
              <a:r>
                <a:rPr b="0" i="1" lang="en-US" sz="2300" spc="-1" strike="noStrike" baseline="-25000">
                  <a:solidFill>
                    <a:srgbClr val="0000a8"/>
                  </a:solidFill>
                  <a:latin typeface="Arial"/>
                </a:rPr>
                <a:t>v</a:t>
              </a:r>
              <a:endParaRPr b="0" lang="en-US" sz="23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6840" y="2819520"/>
              <a:ext cx="41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a8"/>
                  </a:solidFill>
                  <a:latin typeface="Arial"/>
                </a:rPr>
                <a:t>k</a:t>
              </a:r>
              <a:r>
                <a:rPr b="0" i="1" lang="en-US" sz="2300" spc="-1" strike="noStrike" baseline="-25000">
                  <a:solidFill>
                    <a:srgbClr val="0000a8"/>
                  </a:solidFill>
                  <a:latin typeface="Arial"/>
                </a:rPr>
                <a:t>s</a:t>
              </a:r>
              <a:endParaRPr b="0" lang="en-US" sz="23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8920" y="3678120"/>
              <a:ext cx="489960" cy="7621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Black"/>
                </a:rPr>
                <a:t>S</a:t>
              </a:r>
              <a:endParaRPr b="0" lang="en-US" sz="4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4114800"/>
              <a:ext cx="3808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6160" y="4114800"/>
              <a:ext cx="2439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3657600"/>
              <a:ext cx="658800" cy="1600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Black"/>
                </a:rPr>
                <a:t>V</a:t>
              </a:r>
              <a:endParaRPr b="0" lang="en-US" sz="4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88040" y="4495680"/>
              <a:ext cx="381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7960" y="3276720"/>
              <a:ext cx="0" cy="3808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9520" y="3809880"/>
              <a:ext cx="4791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0680" y="3641760"/>
              <a:ext cx="3985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9280" y="4191120"/>
              <a:ext cx="6789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Arial"/>
                </a:rPr>
                <a:t>0/1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2320" y="4114800"/>
              <a:ext cx="0" cy="7621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4876920"/>
              <a:ext cx="3735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720" y="4419720"/>
              <a:ext cx="4791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828800" y="5257800"/>
            <a:ext cx="5640480" cy="990720"/>
          </a:xfrm>
          <a:prstGeom prst="rect">
            <a:avLst/>
          </a:prstGeom>
          <a:solidFill>
            <a:srgbClr val="d8eb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-repudiation: impossible to forge valid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without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40240" y="2971800"/>
            <a:ext cx="762120" cy="6858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22160" y="3254400"/>
            <a:ext cx="1017720" cy="0"/>
          </a:xfrm>
          <a:prstGeom prst="line">
            <a:avLst/>
          </a:prstGeom>
          <a:ln w="9360">
            <a:solidFill>
              <a:srgbClr val="0000a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255840"/>
            <a:ext cx="1144440" cy="0"/>
          </a:xfrm>
          <a:prstGeom prst="line">
            <a:avLst/>
          </a:prstGeom>
          <a:ln w="9360">
            <a:solidFill>
              <a:srgbClr val="0000a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oal of the adversary (1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85204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75000"/>
          </a:bodyPr>
          <a:p>
            <a:pPr marL="257040" indent="-25704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xistential Forgery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ry to forge a valid message-signature pair without the private ke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dversary is successful if the following probability is larg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89080" y="4724280"/>
                <a:ext cx="6670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uc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ecurity models (2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9200" y="236232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-Message Attack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The adversary only knows the verification (public) ke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Known-Message Attacks (KMA)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adversary has access to a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ist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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of message/signature pair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osen Message Attacks (CMA)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messages are adaptively chosen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y the adversary</a:t>
            </a:r>
            <a:r>
              <a:rPr b="0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the strongest attack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lvl="1" marL="8510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851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of by Reduction (3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0600" y="1447920"/>
            <a:ext cx="8902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adversary that breaks the ESIGN scheme then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used to solve the approximate e-th root problem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313080" y="3141720"/>
            <a:ext cx="1487520" cy="1639080"/>
            <a:chOff x="3313080" y="3141720"/>
            <a:chExt cx="1487520" cy="1639080"/>
          </a:xfrm>
        </p:grpSpPr>
        <p:pic>
          <p:nvPicPr>
            <p:cNvPr id="153" name="j0198875" descr=""/>
            <p:cNvPicPr/>
            <p:nvPr/>
          </p:nvPicPr>
          <p:blipFill>
            <a:blip r:embed="rId1"/>
            <a:stretch/>
          </p:blipFill>
          <p:spPr>
            <a:xfrm>
              <a:off x="3313080" y="3141720"/>
              <a:ext cx="1487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585240" y="41382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a8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" y="3318480"/>
            <a:ext cx="2056680" cy="1068840"/>
            <a:chOff x="32400" y="3318480"/>
            <a:chExt cx="2056680" cy="1068840"/>
          </a:xfrm>
        </p:grpSpPr>
        <p:sp>
          <p:nvSpPr>
            <p:cNvPr id="156" name=""/>
            <p:cNvSpPr/>
            <p:nvPr/>
          </p:nvSpPr>
          <p:spPr>
            <a:xfrm>
              <a:off x="32400" y="3318480"/>
              <a:ext cx="171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Instan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 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P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69960" y="4091040"/>
              <a:ext cx="51912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000920" y="4061520"/>
            <a:ext cx="2021760" cy="1068840"/>
            <a:chOff x="7000920" y="4061520"/>
            <a:chExt cx="2021760" cy="1068840"/>
          </a:xfrm>
        </p:grpSpPr>
        <p:sp>
          <p:nvSpPr>
            <p:cNvPr id="159" name=""/>
            <p:cNvSpPr/>
            <p:nvPr/>
          </p:nvSpPr>
          <p:spPr>
            <a:xfrm>
              <a:off x="7376040" y="4061520"/>
              <a:ext cx="164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Solu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0920" y="4764240"/>
              <a:ext cx="48888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089080" y="3141720"/>
            <a:ext cx="4918320" cy="2198520"/>
            <a:chOff x="2089080" y="3141720"/>
            <a:chExt cx="4918320" cy="2198520"/>
          </a:xfrm>
        </p:grpSpPr>
        <p:sp>
          <p:nvSpPr>
            <p:cNvPr id="162" name=""/>
            <p:cNvSpPr/>
            <p:nvPr/>
          </p:nvSpPr>
          <p:spPr>
            <a:xfrm>
              <a:off x="2089080" y="3141720"/>
              <a:ext cx="4918320" cy="21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212920" y="3208320"/>
              <a:ext cx="4794480" cy="2131920"/>
              <a:chOff x="2212920" y="3208320"/>
              <a:chExt cx="4794480" cy="2131920"/>
            </a:xfrm>
          </p:grpSpPr>
          <p:pic>
            <p:nvPicPr>
              <p:cNvPr id="164" name="IN00695_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3594240"/>
                <a:ext cx="1828800" cy="17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IN00696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2920" y="320832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IN00696_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4600" y="325908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5760" y="1461600"/>
            <a:ext cx="886788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signature scheme designed in the late 90i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considered in IEEE P1363, Cryptrec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ESSIE, together with a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curity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Uses RSA integers of the form </a:t>
            </a:r>
            <a:r>
              <a:rPr b="0" i="1" lang="en-US" sz="2900" spc="-1" strike="noStrike">
                <a:solidFill>
                  <a:srgbClr val="0000cc"/>
                </a:solidFill>
                <a:latin typeface="Arial"/>
              </a:rPr>
              <a:t>n=p</a:t>
            </a:r>
            <a:r>
              <a:rPr b="0" i="1" lang="en-US" sz="29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en-US" sz="2900" spc="-1" strike="noStrike">
                <a:solidFill>
                  <a:srgbClr val="0000cc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ased on the Approximate e-th root problem: given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find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such that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# x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mod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gnature generation is a very efficient way to compute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x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iven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with 1/3 leading bits H(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 and the rest 0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SIG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03536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90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5760" y="1676520"/>
            <a:ext cx="8867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gnature generation relies on the fact that, for random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variabl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+tpq)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mod n </a:t>
            </a:r>
            <a:br>
              <a:rPr sz="3200"/>
            </a:b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anges over an arithmetical progression, so that one simply adjusts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o fall into a prescribed interval of length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pq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us signing only requires raising to the e-th power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ven (slightly) more efficient for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e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SIG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hecking proof (4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0600" y="1447920"/>
            <a:ext cx="8902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adversary that breaks the ESIGN scheme then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used to solve the approximate e-th root problem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13080" y="3141720"/>
            <a:ext cx="1487520" cy="1639080"/>
            <a:chOff x="3313080" y="3141720"/>
            <a:chExt cx="1487520" cy="1639080"/>
          </a:xfrm>
        </p:grpSpPr>
        <p:pic>
          <p:nvPicPr>
            <p:cNvPr id="175" name="j0198875" descr=""/>
            <p:cNvPicPr/>
            <p:nvPr/>
          </p:nvPicPr>
          <p:blipFill>
            <a:blip r:embed="rId1"/>
            <a:stretch/>
          </p:blipFill>
          <p:spPr>
            <a:xfrm>
              <a:off x="3313080" y="3141720"/>
              <a:ext cx="1487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585240" y="41382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a8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400" y="3318480"/>
            <a:ext cx="2056680" cy="1068840"/>
            <a:chOff x="32400" y="3318480"/>
            <a:chExt cx="2056680" cy="1068840"/>
          </a:xfrm>
        </p:grpSpPr>
        <p:sp>
          <p:nvSpPr>
            <p:cNvPr id="178" name=""/>
            <p:cNvSpPr/>
            <p:nvPr/>
          </p:nvSpPr>
          <p:spPr>
            <a:xfrm>
              <a:off x="32400" y="3318480"/>
              <a:ext cx="171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Instan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 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P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9960" y="4091040"/>
              <a:ext cx="51912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80" y="5370480"/>
            <a:ext cx="9138960" cy="914400"/>
            <a:chOff x="4680" y="5370480"/>
            <a:chExt cx="9138960" cy="914400"/>
          </a:xfrm>
        </p:grpSpPr>
        <p:sp>
          <p:nvSpPr>
            <p:cNvPr id="181" name=""/>
            <p:cNvSpPr/>
            <p:nvPr/>
          </p:nvSpPr>
          <p:spPr>
            <a:xfrm>
              <a:off x="4680" y="5370480"/>
              <a:ext cx="9138960" cy="914400"/>
            </a:xfrm>
            <a:custGeom>
              <a:avLst/>
              <a:gdLst>
                <a:gd name="textAreaLeft" fmla="*/ 1910160 w 9138960"/>
                <a:gd name="textAreaRight" fmla="*/ 7228800 w 9138960"/>
                <a:gd name="textAreaTop" fmla="*/ 191160 h 914400"/>
                <a:gd name="textAreaBottom" fmla="*/ 723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45" y="11575"/>
                  </a:lnTo>
                  <a:lnTo>
                    <a:pt x="198" y="12861"/>
                  </a:lnTo>
                  <a:lnTo>
                    <a:pt x="2255" y="13250"/>
                  </a:lnTo>
                  <a:lnTo>
                    <a:pt x="786" y="14846"/>
                  </a:lnTo>
                  <a:lnTo>
                    <a:pt x="2951" y="14973"/>
                  </a:lnTo>
                  <a:lnTo>
                    <a:pt x="1742" y="16682"/>
                  </a:lnTo>
                  <a:lnTo>
                    <a:pt x="3892" y="16394"/>
                  </a:lnTo>
                  <a:lnTo>
                    <a:pt x="3163" y="18437"/>
                  </a:lnTo>
                  <a:lnTo>
                    <a:pt x="5086" y="17609"/>
                  </a:lnTo>
                  <a:lnTo>
                    <a:pt x="4761" y="19754"/>
                  </a:lnTo>
                  <a:lnTo>
                    <a:pt x="6491" y="18574"/>
                  </a:lnTo>
                  <a:lnTo>
                    <a:pt x="6580" y="20741"/>
                  </a:lnTo>
                  <a:lnTo>
                    <a:pt x="8201" y="19301"/>
                  </a:lnTo>
                  <a:lnTo>
                    <a:pt x="8555" y="21364"/>
                  </a:lnTo>
                  <a:lnTo>
                    <a:pt x="9871" y="19640"/>
                  </a:lnTo>
                  <a:lnTo>
                    <a:pt x="10800" y="21600"/>
                  </a:lnTo>
                  <a:lnTo>
                    <a:pt x="11575" y="19655"/>
                  </a:lnTo>
                  <a:lnTo>
                    <a:pt x="12861" y="21402"/>
                  </a:lnTo>
                  <a:lnTo>
                    <a:pt x="13250" y="19345"/>
                  </a:lnTo>
                  <a:lnTo>
                    <a:pt x="14846" y="20814"/>
                  </a:lnTo>
                  <a:lnTo>
                    <a:pt x="14973" y="18649"/>
                  </a:lnTo>
                  <a:lnTo>
                    <a:pt x="16682" y="19858"/>
                  </a:lnTo>
                  <a:lnTo>
                    <a:pt x="16394" y="17708"/>
                  </a:lnTo>
                  <a:lnTo>
                    <a:pt x="18437" y="18437"/>
                  </a:lnTo>
                  <a:lnTo>
                    <a:pt x="17609" y="16514"/>
                  </a:lnTo>
                  <a:lnTo>
                    <a:pt x="19754" y="16839"/>
                  </a:lnTo>
                  <a:lnTo>
                    <a:pt x="18574" y="15109"/>
                  </a:lnTo>
                  <a:lnTo>
                    <a:pt x="20741" y="15020"/>
                  </a:lnTo>
                  <a:lnTo>
                    <a:pt x="19301" y="13399"/>
                  </a:lnTo>
                  <a:lnTo>
                    <a:pt x="21364" y="13045"/>
                  </a:lnTo>
                  <a:lnTo>
                    <a:pt x="19640" y="11729"/>
                  </a:lnTo>
                  <a:lnTo>
                    <a:pt x="21600" y="10800"/>
                  </a:lnTo>
                  <a:lnTo>
                    <a:pt x="19655" y="10025"/>
                  </a:lnTo>
                  <a:lnTo>
                    <a:pt x="21402" y="8739"/>
                  </a:lnTo>
                  <a:lnTo>
                    <a:pt x="19345" y="8350"/>
                  </a:lnTo>
                  <a:lnTo>
                    <a:pt x="20814" y="6754"/>
                  </a:lnTo>
                  <a:lnTo>
                    <a:pt x="18649" y="6627"/>
                  </a:lnTo>
                  <a:lnTo>
                    <a:pt x="19858" y="4918"/>
                  </a:lnTo>
                  <a:lnTo>
                    <a:pt x="17708" y="5206"/>
                  </a:lnTo>
                  <a:lnTo>
                    <a:pt x="18437" y="3163"/>
                  </a:lnTo>
                  <a:lnTo>
                    <a:pt x="16514" y="3991"/>
                  </a:lnTo>
                  <a:lnTo>
                    <a:pt x="16839" y="1846"/>
                  </a:lnTo>
                  <a:lnTo>
                    <a:pt x="15109" y="3026"/>
                  </a:lnTo>
                  <a:lnTo>
                    <a:pt x="15020" y="859"/>
                  </a:lnTo>
                  <a:lnTo>
                    <a:pt x="13399" y="2299"/>
                  </a:lnTo>
                  <a:lnTo>
                    <a:pt x="13045" y="236"/>
                  </a:lnTo>
                  <a:lnTo>
                    <a:pt x="11729" y="1960"/>
                  </a:lnTo>
                  <a:lnTo>
                    <a:pt x="10800" y="0"/>
                  </a:lnTo>
                  <a:lnTo>
                    <a:pt x="10025" y="1945"/>
                  </a:lnTo>
                  <a:lnTo>
                    <a:pt x="8739" y="198"/>
                  </a:lnTo>
                  <a:lnTo>
                    <a:pt x="8350" y="2255"/>
                  </a:lnTo>
                  <a:lnTo>
                    <a:pt x="6754" y="786"/>
                  </a:lnTo>
                  <a:lnTo>
                    <a:pt x="6627" y="2951"/>
                  </a:lnTo>
                  <a:lnTo>
                    <a:pt x="4918" y="1742"/>
                  </a:lnTo>
                  <a:lnTo>
                    <a:pt x="5206" y="3892"/>
                  </a:lnTo>
                  <a:lnTo>
                    <a:pt x="3163" y="3163"/>
                  </a:lnTo>
                  <a:lnTo>
                    <a:pt x="3991" y="5086"/>
                  </a:lnTo>
                  <a:lnTo>
                    <a:pt x="1846" y="4761"/>
                  </a:lnTo>
                  <a:lnTo>
                    <a:pt x="3026" y="6491"/>
                  </a:lnTo>
                  <a:lnTo>
                    <a:pt x="859" y="6580"/>
                  </a:lnTo>
                  <a:lnTo>
                    <a:pt x="2299" y="8201"/>
                  </a:lnTo>
                  <a:lnTo>
                    <a:pt x="236" y="8555"/>
                  </a:lnTo>
                  <a:lnTo>
                    <a:pt x="1960" y="987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000" y="5454720"/>
              <a:ext cx="75736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proof not correct in CMA model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920" y="4061520"/>
            <a:ext cx="2021760" cy="1068840"/>
            <a:chOff x="7000920" y="4061520"/>
            <a:chExt cx="2021760" cy="1068840"/>
          </a:xfrm>
        </p:grpSpPr>
        <p:sp>
          <p:nvSpPr>
            <p:cNvPr id="184" name=""/>
            <p:cNvSpPr/>
            <p:nvPr/>
          </p:nvSpPr>
          <p:spPr>
            <a:xfrm>
              <a:off x="7376040" y="4061520"/>
              <a:ext cx="164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Solu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920" y="4764240"/>
              <a:ext cx="48888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89080" y="3141720"/>
            <a:ext cx="4918320" cy="2198520"/>
            <a:chOff x="2089080" y="3141720"/>
            <a:chExt cx="4918320" cy="2198520"/>
          </a:xfrm>
        </p:grpSpPr>
        <p:sp>
          <p:nvSpPr>
            <p:cNvPr id="187" name=""/>
            <p:cNvSpPr/>
            <p:nvPr/>
          </p:nvSpPr>
          <p:spPr>
            <a:xfrm>
              <a:off x="2089080" y="3141720"/>
              <a:ext cx="4918320" cy="21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212920" y="3208320"/>
              <a:ext cx="4794480" cy="2131920"/>
              <a:chOff x="2212920" y="3208320"/>
              <a:chExt cx="4794480" cy="2131920"/>
            </a:xfrm>
          </p:grpSpPr>
          <p:pic>
            <p:nvPicPr>
              <p:cNvPr id="189" name="IN00695_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3594240"/>
                <a:ext cx="1828800" cy="17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IN00696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2920" y="320832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IN00696_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4600" y="325908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verlooked: submit message twice?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a probabilistic signature scheme, several signatures may correspond to a messag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the usual definition for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xistential Forgery in Chosen-Message Attacks (CMA),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adversary can repeatedly submit a message. Otherwise, weaker model :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ngle-Occurrence Chosen-Message Attacks (SO-CMA)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ach message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submitted only once ; this produces a signature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nd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,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 is added to the list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of message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34480" y="95868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PMS 02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hecking proof (4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0600" y="1447920"/>
            <a:ext cx="8902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adversary that breaks the ESIGN scheme then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used to solve the approximate e-th root problem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313080" y="3141720"/>
            <a:ext cx="1487520" cy="1639080"/>
            <a:chOff x="3313080" y="3141720"/>
            <a:chExt cx="1487520" cy="1639080"/>
          </a:xfrm>
        </p:grpSpPr>
        <p:pic>
          <p:nvPicPr>
            <p:cNvPr id="198" name="j0198875" descr=""/>
            <p:cNvPicPr/>
            <p:nvPr/>
          </p:nvPicPr>
          <p:blipFill>
            <a:blip r:embed="rId1"/>
            <a:stretch/>
          </p:blipFill>
          <p:spPr>
            <a:xfrm>
              <a:off x="3313080" y="3141720"/>
              <a:ext cx="1487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585240" y="41382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a8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2400" y="3318480"/>
            <a:ext cx="2056680" cy="1068840"/>
            <a:chOff x="32400" y="3318480"/>
            <a:chExt cx="2056680" cy="1068840"/>
          </a:xfrm>
        </p:grpSpPr>
        <p:sp>
          <p:nvSpPr>
            <p:cNvPr id="201" name=""/>
            <p:cNvSpPr/>
            <p:nvPr/>
          </p:nvSpPr>
          <p:spPr>
            <a:xfrm>
              <a:off x="32400" y="3318480"/>
              <a:ext cx="171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Instan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 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P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9960" y="4091040"/>
              <a:ext cx="51912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80" y="5370480"/>
            <a:ext cx="9138960" cy="914400"/>
            <a:chOff x="4680" y="5370480"/>
            <a:chExt cx="9138960" cy="914400"/>
          </a:xfrm>
        </p:grpSpPr>
        <p:sp>
          <p:nvSpPr>
            <p:cNvPr id="204" name=""/>
            <p:cNvSpPr/>
            <p:nvPr/>
          </p:nvSpPr>
          <p:spPr>
            <a:xfrm>
              <a:off x="4680" y="5370480"/>
              <a:ext cx="9138960" cy="914400"/>
            </a:xfrm>
            <a:custGeom>
              <a:avLst/>
              <a:gdLst>
                <a:gd name="textAreaLeft" fmla="*/ 1910160 w 9138960"/>
                <a:gd name="textAreaRight" fmla="*/ 7228800 w 9138960"/>
                <a:gd name="textAreaTop" fmla="*/ 191160 h 914400"/>
                <a:gd name="textAreaBottom" fmla="*/ 723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45" y="11575"/>
                  </a:lnTo>
                  <a:lnTo>
                    <a:pt x="198" y="12861"/>
                  </a:lnTo>
                  <a:lnTo>
                    <a:pt x="2255" y="13250"/>
                  </a:lnTo>
                  <a:lnTo>
                    <a:pt x="786" y="14846"/>
                  </a:lnTo>
                  <a:lnTo>
                    <a:pt x="2951" y="14973"/>
                  </a:lnTo>
                  <a:lnTo>
                    <a:pt x="1742" y="16682"/>
                  </a:lnTo>
                  <a:lnTo>
                    <a:pt x="3892" y="16394"/>
                  </a:lnTo>
                  <a:lnTo>
                    <a:pt x="3163" y="18437"/>
                  </a:lnTo>
                  <a:lnTo>
                    <a:pt x="5086" y="17609"/>
                  </a:lnTo>
                  <a:lnTo>
                    <a:pt x="4761" y="19754"/>
                  </a:lnTo>
                  <a:lnTo>
                    <a:pt x="6491" y="18574"/>
                  </a:lnTo>
                  <a:lnTo>
                    <a:pt x="6580" y="20741"/>
                  </a:lnTo>
                  <a:lnTo>
                    <a:pt x="8201" y="19301"/>
                  </a:lnTo>
                  <a:lnTo>
                    <a:pt x="8555" y="21364"/>
                  </a:lnTo>
                  <a:lnTo>
                    <a:pt x="9871" y="19640"/>
                  </a:lnTo>
                  <a:lnTo>
                    <a:pt x="10800" y="21600"/>
                  </a:lnTo>
                  <a:lnTo>
                    <a:pt x="11575" y="19655"/>
                  </a:lnTo>
                  <a:lnTo>
                    <a:pt x="12861" y="21402"/>
                  </a:lnTo>
                  <a:lnTo>
                    <a:pt x="13250" y="19345"/>
                  </a:lnTo>
                  <a:lnTo>
                    <a:pt x="14846" y="20814"/>
                  </a:lnTo>
                  <a:lnTo>
                    <a:pt x="14973" y="18649"/>
                  </a:lnTo>
                  <a:lnTo>
                    <a:pt x="16682" y="19858"/>
                  </a:lnTo>
                  <a:lnTo>
                    <a:pt x="16394" y="17708"/>
                  </a:lnTo>
                  <a:lnTo>
                    <a:pt x="18437" y="18437"/>
                  </a:lnTo>
                  <a:lnTo>
                    <a:pt x="17609" y="16514"/>
                  </a:lnTo>
                  <a:lnTo>
                    <a:pt x="19754" y="16839"/>
                  </a:lnTo>
                  <a:lnTo>
                    <a:pt x="18574" y="15109"/>
                  </a:lnTo>
                  <a:lnTo>
                    <a:pt x="20741" y="15020"/>
                  </a:lnTo>
                  <a:lnTo>
                    <a:pt x="19301" y="13399"/>
                  </a:lnTo>
                  <a:lnTo>
                    <a:pt x="21364" y="13045"/>
                  </a:lnTo>
                  <a:lnTo>
                    <a:pt x="19640" y="11729"/>
                  </a:lnTo>
                  <a:lnTo>
                    <a:pt x="21600" y="10800"/>
                  </a:lnTo>
                  <a:lnTo>
                    <a:pt x="19655" y="10025"/>
                  </a:lnTo>
                  <a:lnTo>
                    <a:pt x="21402" y="8739"/>
                  </a:lnTo>
                  <a:lnTo>
                    <a:pt x="19345" y="8350"/>
                  </a:lnTo>
                  <a:lnTo>
                    <a:pt x="20814" y="6754"/>
                  </a:lnTo>
                  <a:lnTo>
                    <a:pt x="18649" y="6627"/>
                  </a:lnTo>
                  <a:lnTo>
                    <a:pt x="19858" y="4918"/>
                  </a:lnTo>
                  <a:lnTo>
                    <a:pt x="17708" y="5206"/>
                  </a:lnTo>
                  <a:lnTo>
                    <a:pt x="18437" y="3163"/>
                  </a:lnTo>
                  <a:lnTo>
                    <a:pt x="16514" y="3991"/>
                  </a:lnTo>
                  <a:lnTo>
                    <a:pt x="16839" y="1846"/>
                  </a:lnTo>
                  <a:lnTo>
                    <a:pt x="15109" y="3026"/>
                  </a:lnTo>
                  <a:lnTo>
                    <a:pt x="15020" y="859"/>
                  </a:lnTo>
                  <a:lnTo>
                    <a:pt x="13399" y="2299"/>
                  </a:lnTo>
                  <a:lnTo>
                    <a:pt x="13045" y="236"/>
                  </a:lnTo>
                  <a:lnTo>
                    <a:pt x="11729" y="1960"/>
                  </a:lnTo>
                  <a:lnTo>
                    <a:pt x="10800" y="0"/>
                  </a:lnTo>
                  <a:lnTo>
                    <a:pt x="10025" y="1945"/>
                  </a:lnTo>
                  <a:lnTo>
                    <a:pt x="8739" y="198"/>
                  </a:lnTo>
                  <a:lnTo>
                    <a:pt x="8350" y="2255"/>
                  </a:lnTo>
                  <a:lnTo>
                    <a:pt x="6754" y="786"/>
                  </a:lnTo>
                  <a:lnTo>
                    <a:pt x="6627" y="2951"/>
                  </a:lnTo>
                  <a:lnTo>
                    <a:pt x="4918" y="1742"/>
                  </a:lnTo>
                  <a:lnTo>
                    <a:pt x="5206" y="3892"/>
                  </a:lnTo>
                  <a:lnTo>
                    <a:pt x="3163" y="3163"/>
                  </a:lnTo>
                  <a:lnTo>
                    <a:pt x="3991" y="5086"/>
                  </a:lnTo>
                  <a:lnTo>
                    <a:pt x="1846" y="4761"/>
                  </a:lnTo>
                  <a:lnTo>
                    <a:pt x="3026" y="6491"/>
                  </a:lnTo>
                  <a:lnTo>
                    <a:pt x="859" y="6580"/>
                  </a:lnTo>
                  <a:lnTo>
                    <a:pt x="2299" y="8201"/>
                  </a:lnTo>
                  <a:lnTo>
                    <a:pt x="236" y="8555"/>
                  </a:lnTo>
                  <a:lnTo>
                    <a:pt x="1960" y="987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9000" y="5454720"/>
              <a:ext cx="75736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proof not correct for </a:t>
              </a:r>
              <a:r>
                <a:rPr b="0" i="1" lang="fr-FR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 a power of two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000920" y="4061520"/>
            <a:ext cx="2021760" cy="1068840"/>
            <a:chOff x="7000920" y="4061520"/>
            <a:chExt cx="2021760" cy="1068840"/>
          </a:xfrm>
        </p:grpSpPr>
        <p:sp>
          <p:nvSpPr>
            <p:cNvPr id="207" name=""/>
            <p:cNvSpPr/>
            <p:nvPr/>
          </p:nvSpPr>
          <p:spPr>
            <a:xfrm>
              <a:off x="7376040" y="4061520"/>
              <a:ext cx="164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Solu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00920" y="4764240"/>
              <a:ext cx="48888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089080" y="3141720"/>
            <a:ext cx="4918320" cy="2198520"/>
            <a:chOff x="2089080" y="3141720"/>
            <a:chExt cx="4918320" cy="2198520"/>
          </a:xfrm>
        </p:grpSpPr>
        <p:sp>
          <p:nvSpPr>
            <p:cNvPr id="210" name=""/>
            <p:cNvSpPr/>
            <p:nvPr/>
          </p:nvSpPr>
          <p:spPr>
            <a:xfrm>
              <a:off x="2089080" y="3141720"/>
              <a:ext cx="4918320" cy="21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12920" y="3208320"/>
              <a:ext cx="4794480" cy="2131920"/>
              <a:chOff x="2212920" y="3208320"/>
              <a:chExt cx="4794480" cy="2131920"/>
            </a:xfrm>
          </p:grpSpPr>
          <p:pic>
            <p:nvPicPr>
              <p:cNvPr id="212" name="IN00695_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3594240"/>
                <a:ext cx="1828800" cy="17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IN00696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2920" y="320832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IN00696_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4600" y="325908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verlooked: correct simulation of random oracle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the security proof a key step “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mulate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” a random oracle so that signature of a requested message can be performed by simulation (i.e. without the secret key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simulation picks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t random and “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declares”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at H(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 consists of the 1/3 leading bits of 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mod n.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s makes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 signature of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m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eed to prove that this correctly simulates a random function: not obvious when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e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 short introduction to  “provable security”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 ESIGN signature schem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ifficulties with the security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nsity of power residu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mpleting the proof when </a:t>
            </a:r>
            <a:r>
              <a:rPr b="1" i="1" lang="fr-FR" sz="4400" spc="-1" strike="noStrike">
                <a:solidFill>
                  <a:srgbClr val="0033cc"/>
                </a:solidFill>
                <a:latin typeface="Times New Roman"/>
              </a:rPr>
              <a:t>e=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fr-FR" sz="4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fr-FR" sz="4400" spc="-1" strike="noStrike" baseline="30000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eed to show that the density of power residues is almost uniform in any large enough interva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orem. Let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RSA modulus,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=pq;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the number of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e-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 power residues modulo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in any interval of length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, 1/2 &lt;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&lt;1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s very close to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/ 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is the index of the group of power residues and very close means that the relative difference is bounded b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5 N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Times New Roman"/>
              </a:rPr>
              <a:t>1/2-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ln(N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mpleting the proof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We have two proof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rst uses two-dimensional lattices and yields slightly worse bound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(found afterwards) uses the so-called Polya-Vinogradov inequality which states that, for any non principal Dirichlet character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over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(Z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)*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any integer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h, </a:t>
            </a:r>
            <a:br>
              <a:rPr sz="3200"/>
            </a:b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x 1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 &lt;x 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 h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(x) 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 2ln(N)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s is enough to complete the security proof when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s not prime to 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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(n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152280" y="26640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nclusions (1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28800"/>
            <a:ext cx="9067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methodology of provable security is more subtle than it at first appears, even in the random oracle setting: we have shown several potential flaws in the security proof of ESIGN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first flaw is methodological in character and is related to the security mod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second is a limitation in the proof that could be overcome by use of (some) number theory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52280" y="26640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nclusions (2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238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took twenty centuries to design RS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took over twenty years to understand how to practice RSA and get “provable security”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SIGN’s provable security took over ten year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ryptographic schemes should not be adopted and standardized prematurel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not without a security proof, at least in the random oracle mod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lso allow some additional time to check and interpret the security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Kerckhoffs’ Principl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190512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1° Le système doit être matériellement, sinon mathématiquement, indéchiffrable 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2° Il faut qu’il n’exige pas le secret, et qu’il puisse sans inconvénient tomber entre les mains de l’ennemi 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1520" y="1643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K 1883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Kerckhoffs’ Principles (english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2057400"/>
            <a:ext cx="86421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° The system must be practically if not mathematically indecipherable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° The system must not require secrecy, and can fall without drawback into the enemy ’s hands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Arial"/>
              </a:rPr>
              <a:t>Public key cryptography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1520" y="1950840"/>
            <a:ext cx="87184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440" y="4214880"/>
            <a:ext cx="5238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lvl="1" marL="851040" indent="-31752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A private key </a:t>
            </a:r>
            <a:r>
              <a:rPr b="0" i="1" lang="fr-FR" sz="2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i="1" lang="fr-FR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27008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55720" y="1704960"/>
            <a:ext cx="4630680" cy="901800"/>
            <a:chOff x="855720" y="1704960"/>
            <a:chExt cx="4630680" cy="901800"/>
          </a:xfrm>
        </p:grpSpPr>
        <p:sp>
          <p:nvSpPr>
            <p:cNvPr id="98" name=""/>
            <p:cNvSpPr/>
            <p:nvPr/>
          </p:nvSpPr>
          <p:spPr>
            <a:xfrm>
              <a:off x="855720" y="1704960"/>
              <a:ext cx="4630680" cy="901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855720" y="1856520"/>
              <a:ext cx="4630680" cy="581400"/>
              <a:chOff x="855720" y="1856520"/>
              <a:chExt cx="4630680" cy="581400"/>
            </a:xfrm>
          </p:grpSpPr>
          <p:sp>
            <p:nvSpPr>
              <p:cNvPr id="100" name=""/>
              <p:cNvSpPr/>
              <p:nvPr/>
            </p:nvSpPr>
            <p:spPr>
              <a:xfrm>
                <a:off x="855720" y="1856520"/>
                <a:ext cx="106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a8"/>
                    </a:solidFill>
                    <a:latin typeface="Arial"/>
                  </a:rPr>
                  <a:t>Alice</a:t>
                </a:r>
                <a:endParaRPr b="0" lang="en-US" sz="32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83160" y="185652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a8"/>
                    </a:solidFill>
                    <a:latin typeface="Arial"/>
                  </a:rPr>
                  <a:t>Bob</a:t>
                </a:r>
                <a:endParaRPr b="0" lang="en-US" sz="32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cxnSp>
            <p:nvCxnSpPr>
              <p:cNvPr id="102" name=""/>
              <p:cNvCxnSpPr>
                <a:stCxn id="100" idx="3"/>
                <a:endCxn id="101" idx="1"/>
              </p:cNvCxnSpPr>
              <p:nvPr/>
            </p:nvCxnSpPr>
            <p:spPr>
              <a:xfrm>
                <a:off x="1917720" y="2147400"/>
                <a:ext cx="2666160" cy="1080"/>
              </a:xfrm>
              <a:prstGeom prst="straightConnector1">
                <a:avLst/>
              </a:prstGeom>
              <a:ln w="9360">
                <a:solidFill>
                  <a:srgbClr val="0000a8"/>
                </a:solidFill>
                <a:miter/>
                <a:headEnd len="lg" type="triangle" w="lg"/>
                <a:tailEnd len="lg" type="triangle" w="lg"/>
              </a:ln>
            </p:spPr>
          </p:cxnSp>
        </p:grpSp>
      </p:grpSp>
      <p:sp>
        <p:nvSpPr>
          <p:cNvPr id="103" name=""/>
          <p:cNvSpPr/>
          <p:nvPr/>
        </p:nvSpPr>
        <p:spPr>
          <a:xfrm>
            <a:off x="380880" y="2819520"/>
            <a:ext cx="7927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Arial"/>
              </a:rPr>
              <a:t>Bob has a pair of related key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606840"/>
            <a:ext cx="56833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lvl="1" marL="851040" indent="-31752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A public key </a:t>
            </a:r>
            <a:r>
              <a:rPr b="0" i="1" lang="fr-FR" sz="2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i="1" lang="fr-FR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27008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9400" y="3606840"/>
            <a:ext cx="34498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known to anyone including Ali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214880"/>
            <a:ext cx="31370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only known to Bob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280" y="13230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DH 1976 RSA 78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8" name="SOLUTION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450800" cy="1977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3840" y="4984560"/>
            <a:ext cx="77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Kerckhoff ’s extended second principle 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« Il faut que la clé de chiffrement puisse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sans inconvénient tomber entre les mains de l’ennemi 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vable secur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612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ttempts to mathematically establish securit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60080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Kerckhoff ’s extended first principl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Le système doit être mathématiquement indéchiffrable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522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M84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960" y="152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MR88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actical” provable secur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6800" y="2285640"/>
            <a:ext cx="826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“random oracle” methodology mediates between practice and math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substitutes truly random functions to hash functions and averages over thes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ery efficient and now requested to support emerging standards (IEEE P1363, Cryptrec, NESSIE, ISO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6560" y="13705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S86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23040" y="1370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R93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e limits of provable secur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Provable security does not yield proofs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- proofs are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lativ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- proofs often use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andom oracles.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       Meaning is debatable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GH98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till, provable security is a means to provide some form of guarantee that a crypto scheme is not flawed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vable security in five step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6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 Define goal of adversar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Define security mod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 Provide a proof by reduc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 Check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 Interpret proof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20:30:16Z</dcterms:created>
  <dc:creator>Jacques Stern</dc:creator>
  <dc:description/>
  <dc:language>en-US</dc:language>
  <cp:lastModifiedBy>Stern</cp:lastModifiedBy>
  <cp:lastPrinted>2003-09-13T10:43:49Z</cp:lastPrinted>
  <dcterms:modified xsi:type="dcterms:W3CDTF">2003-11-07T16:26:06Z</dcterms:modified>
  <cp:revision>267</cp:revision>
  <dc:subject/>
  <dc:title>aaecc 03</dc:title>
</cp:coreProperties>
</file>