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634C-EA95-4696-9C81-C9DD1F34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3887-CFDC-4BDD-B5C0-D439EF15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D8A6-EAB6-4517-B05A-DECFCADE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C778-DF4D-4EDC-9A57-307E36B3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070D-5CD8-4F9E-A789-02888E20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DE2A-618E-421D-AA12-0DB9D333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E5F2-EADE-4303-B618-971C2223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CD4A-BE2C-4B22-98B8-BAD2D6A7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568-00EA-400D-83F0-8AFBE4CD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8C92-F3C4-4F0C-B8D3-8847D9E5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6ABA-2E25-4A06-9BD3-285D7499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A6A-71BD-4A6E-B086-277F4503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C7C5-DAA3-4D65-9DEB-59FCEBBA5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40800" y="6359400"/>
            <a:ext cx="1303200" cy="4986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124000" y="6643800"/>
            <a:ext cx="489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urosawa, Takagi, ”Some RSA-based Encryption Schemes with Tight Security Reduction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76320" y="-34920"/>
            <a:ext cx="37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siacrypt 2003,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vember 30 - December 4, Taipei, Taiw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me RSA-base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cryption Schemes with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ight Security Redu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87280" y="4123800"/>
            <a:ext cx="6840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oru Kurosawa, Ibaraki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uyoshi Takagi, TU Darmsta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urity of Rabin-Pail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ition 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Semantic Secur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-CPA if {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2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| 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∈ S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{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2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∈ S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indistinguishabl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ition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One-waynes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-waynes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reaking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alindo et al., PKC 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9320" y="5661000"/>
            <a:ext cx="77169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me proof technique with RSA-Paillier =&gt;  reduc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b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ε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r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t O be an Oracle th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ith prob.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show a factoring algorith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pu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ho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a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∈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i="1" lang="ja-JP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*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∈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.t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 = 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Qu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ac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 prop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.t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 prob. ε, where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∈ S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r Proo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us,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N in 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ome -n&lt;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&lt;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ut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  =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 - m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  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e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us, 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e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-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/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r Proo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solving quadratic equati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Finally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cd(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∈ S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∈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i="1" lang="ja-JP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* </a:t>
            </a:r>
            <a:r>
              <a:rPr b="0" i="1" lang="ja-JP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.t.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4200" y="5289480"/>
            <a:ext cx="82119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has asked orac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nly once =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red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babilit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ing Re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We proposed a tight reduction algorithm for Rabin-Paillier cryptosyst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A similar result with the following variant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/p) = (a/q) = 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An IND-CCA variant in RO-model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2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)||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,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still IND-CPA &amp; OW in standard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SA-based IND-CCA scheme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RO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8200" y="2717640"/>
            <a:ext cx="7761240" cy="3080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- reduced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A-OAEP (Crypto’01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RS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EP (Crypto’01)                         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Factor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9360" y="3360600"/>
            <a:ext cx="7775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8720" y="4734000"/>
            <a:ext cx="7775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00720" y="2708280"/>
            <a:ext cx="0" cy="30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5280" y="1844640"/>
            <a:ext cx="80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t ε be a success probability breaking IND-CCA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e-wayness and Semantic-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wayness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h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 security = IND-CPA (CCA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information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hard against CPA (CC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ndom Oracl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sh function 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reated 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nd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ndom orac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 model proof is heuris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replace RO to a practical hash func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proof is no longer val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-CCA in the Standard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mer-Shoup sche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(Crypto’98:) Decisional DH assum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wayness = DH assum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SA-based IND-CCA scheme is unknown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SA-based IND-CPA sche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Standard Mode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SA-Paillier scheme is IND-CP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wayness =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talano et al., Asiacrypt’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abin-Paillier scheme is IND-CP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wayness = Factoring Blum integ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alindo et al., PKC’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43640" y="3789360"/>
            <a:ext cx="2087640" cy="719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1800" y="3060720"/>
            <a:ext cx="8637120" cy="3080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Technique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ing Probabilit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indo et al. (PKC’03)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ε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LL, RSA-Pail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proof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totally elementa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720" y="3711600"/>
            <a:ext cx="7775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3440" y="5084640"/>
            <a:ext cx="7775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88000" y="3059280"/>
            <a:ext cx="0" cy="3106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2600" y="1604880"/>
            <a:ext cx="6930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t ε be a success probability that brea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ne-wayness of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bin-Paillier sche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SA-Paillie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ublic-key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ecret key)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= e</a:t>
            </a:r>
            <a:r>
              <a:rPr b="0" i="1" lang="de-DE" sz="3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-1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od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p-1)(q-1)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laintext)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∈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iphertext) For rand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∈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--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cryption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 = (C – 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/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urity of RSA-Pail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ition 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Semantic Secur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-CPA if {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| 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∈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{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∈ 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indistinguishabl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ition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One-waynes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-waynes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reaking R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talano et al., Asiacrypt’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7560" y="5613480"/>
            <a:ext cx="7919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 oracle calls are requi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&gt;  reduc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babilit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ε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bin-Paillier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ublic-key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Blum 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ecret key)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,q, d (= e</a:t>
            </a:r>
            <a:r>
              <a:rPr b="0" i="1" lang="de-DE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-1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p-1)(q-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laintext)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∈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iphertext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S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 {s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mod n | 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∈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2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--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cryption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d the unique solu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∈ 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 N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 = (C – 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)/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8:11:34Z</dcterms:created>
  <dc:creator>Tsuyoshi Takagi</dc:creator>
  <dc:description/>
  <dc:language>en-US</dc:language>
  <cp:lastModifiedBy>Tsuyoshi Takagi</cp:lastModifiedBy>
  <dcterms:modified xsi:type="dcterms:W3CDTF">2003-12-01T00:11:17Z</dcterms:modified>
  <cp:revision>67</cp:revision>
  <dc:subject/>
  <dc:title>Some RSA-based Encryption Schemes with Tight Security Reduction </dc:title>
</cp:coreProperties>
</file>