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BFD-6822-486B-A107-4E328D1C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E6A-DCA6-4D4A-90FF-31C9DAF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4E5-7A3A-48C6-AD09-E0E899D0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2DF-31F5-4D25-8136-CB4B881D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08D-1C83-4ED3-983D-19ED6158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BB4F-38DE-4D14-9FDF-459E19F7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932E-1FAD-48DF-A2F9-5A69957D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7E6A-03A5-4D8F-8A1D-1BDCE058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9724-396F-4032-9EE9-B3576FBA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AA17-179D-43F4-865A-72652C81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B75B-2783-42A0-925B-BBA60A9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1DC-D1C6-4298-A0FC-69EC3584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3DE0-05F1-4F6C-91AF-C0021F07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72CA-BA41-4EA9-9BB9-FB3C658E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79F9-1E62-4985-9CC7-E22B3DB4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BEEC-FC2B-4F58-A1E2-598BD177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3E38-F96B-4131-B5C0-265CDE1C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D54-0990-4134-88EC-034A8298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518-9B80-49A9-9870-21BF5C9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6CE-3E81-4ACC-81F2-04585F18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9F3-452D-4A08-9261-49E41594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EE1-E2F4-46B7-B93B-E3DE1B9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25C-98D0-457D-811E-2210D03C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63E-C085-4727-A9A8-71530BA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891F-A7B9-47A5-AEF7-5085040601DD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7EE-8F3C-4760-ABC2-1EAA69C56947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Tahoma"/>
              </a:rPr>
              <a:t>AsiaCrypt 2003- Program Committee Report</a:t>
            </a: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 Sung Lai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.30~Dec.4,2003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ipei, Tai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~Thank You~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i Sung Laih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7B9-3E19-45DF-8845-995E4A15CD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Preparations for Asiacrypt 2003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.15,2002: AC’03 website was onl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.17,2003: AC’03 logo was desig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5: Online submission was up and run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22: Deadline for sub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26: Review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13: All review reports were recei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15~29: Discussion among PC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ust 1: Send notifications to auth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ust 17: registration sta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.20: The final version of proceedings was sent to Springer-Verla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A26-FA80-4F26-BF3C-D3CEAFC52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Program Committee Member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C33-054C-4B74-A798-263EC5BC1F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Submission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88 submissions (26 countr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accepted   (15 countr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32 papers was merg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 % acceptanc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4E1-1EEA-4009-93A4-FB34B56DAA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Submissions by Continent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ia- 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-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rope- 5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BD7-6F37-44D2-867A-0964914AA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Submissions by Country (Total:26)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stralia-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na-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ng Kong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a-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pan-2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rea-2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laysia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apore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iwan-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ada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A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gladesh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lgium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azil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nmark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land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ance-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rmany-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ran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rael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edonia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and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eden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zerland-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ugoslavia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248520"/>
            <a:ext cx="5932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814-38E1-47B0-82CD-289881B30F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ccepted Papers from 15 countrie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925640"/>
            <a:ext cx="6323040" cy="54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BC7-C212-42B2-A26E-8A761B1BB4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Review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7 reviewers from 17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ubmissions and reviewing process were anonymou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per was reviewed by at least 3 pc me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s submitted by one of the pc members were reviewed by 6 me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3 external revie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5ED-86FA-43CD-A60E-8867770645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Revision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ut of 188 submissions, 45 had revision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1 papers were revised 1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papers were revised 2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 papers were revised 3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aper was revised 4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papers were revised 5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aper was revised 6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aper was revised 7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apers were revised 9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82A-2B65-4A00-A449-4E1241FA76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2:40:18Z</dcterms:created>
  <dc:creator>annie</dc:creator>
  <dc:description/>
  <dc:language>en-US</dc:language>
  <cp:lastModifiedBy>cmy</cp:lastModifiedBy>
  <dcterms:modified xsi:type="dcterms:W3CDTF">2003-11-30T13:23:44Z</dcterms:modified>
  <cp:revision>112</cp:revision>
  <dc:subject/>
  <dc:title>Asiacrypt 2003</dc:title>
</cp:coreProperties>
</file>