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7C5-A0AC-476F-903D-AE85CFC0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D5B-6A9A-4AE5-BA9F-38E60E8E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052-C866-4B7D-9BAA-C938631C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24D-2B37-4113-9F00-059F21CD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09E6-ABDC-4BD2-9A76-33A9B939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7C2A-CA8F-4E29-AFE6-EE59FB89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B337-0C1C-447F-BB4B-F9ABF168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3E40-D008-4746-B5D6-0F5C43D8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20B2-0193-4682-8505-86E6F261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DB3B-F1E7-43FE-A35F-FA43200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ED73-E5CA-4A68-AED1-97E79D4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631-53B3-4987-BA70-EAB1ABC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EEC8-3195-45DB-BC57-AD4EF81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1521-6255-4DC8-80C9-DAB34896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D5D8-0480-4651-A73A-4F429AF6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7AD2-7C85-4DE7-BC41-6CB08F20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CF44-198D-41C7-8336-C5A96769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961-F57E-4BB6-9F09-0F3622E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155-2532-4423-A3BA-12A96889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CC7-6DB4-4CE3-B975-E5A984E3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F44-302F-41AB-B690-FE677D8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AF0-0D03-453B-AA42-A7469A39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AF2-ECF5-4CCE-8D8A-88CF0DC3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759-64A8-463C-8D51-7775E2A3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6226-CFF2-419E-91AE-3FCC57E39B34}" type="slidenum">
              <a:rPr b="0" lang="he-I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102C-76D5-4C70-B821-7C7C1BB20067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1520" y="16732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RYPTOGRAPH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ATE OF THE SCIENCE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IACRYPT 2003 invited tal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7240" y="3619080"/>
            <a:ext cx="7770960" cy="28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i Shami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uter Science Dep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Weizmann Institu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ra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8540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yptography as a scientific discip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8320" y="1333080"/>
            <a:ext cx="77122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thriving as a scientific area of resear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ught at most major univers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acts many excellent stud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ssed at many confer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&gt;25 in the next   6 month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shed in hundreds of papers (e.g., EPRI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conferences have &gt;500 attende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jor trade shows have &gt;10,000 attende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d the ultimate seal of approval from the general CS community (the Turing award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ould we rename the field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29960" y="1459080"/>
            <a:ext cx="7629480" cy="44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graphy means “secret wri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naming of the fiel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olog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ryptograp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analy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ould we rename the field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9960" y="1459080"/>
            <a:ext cx="7629480" cy="44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graphy means “secret wri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naming of the fiel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olog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ryptograp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analy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terms have problematic cono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research subfields do not deal with the encryption or decryption of secret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ould we rename the field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9960" y="1530000"/>
            <a:ext cx="7629480" cy="51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graphy means “secret wri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naming of the fiel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olog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ryptograp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analy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terms have problematic cono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research subfields do not deal with the encryption or decryption of secret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ropose to call the broader fiel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dversity Theor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ryptolog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ther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math to phy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3235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ed scientific fields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30320" y="163332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LD COMBINA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ability and stat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3235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ed scientific fields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LD COMBINA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ability and stat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W COMBINA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 processing (in steg, fingerprint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s (in side channel attack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ysics (in quantum computers and crypt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math to phy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theory to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 unites Theory &amp; practic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80992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ctical theor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using abstract math tools in crypt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ving the security of real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eveloping new cryptograph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tical pract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developing new notions of security, complexity, logics, and randomne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urning cryptography 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w challenges in cryptography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yment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ular telepho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-Fi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FID ta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M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math to phy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theory to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political to legal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56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ic misconce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80992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policy makers: crypto is dangerous, b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weak crypto is not a 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controls can’t stop the inevi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researchers: A provably secure system is secure, b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proven false by indirect atta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can be based on false assump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requires careful choice of para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implementers: Cryptography solves everything, b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only basic ideas are successfully deploy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only simple attacks are avoi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bad crypto can provide a false sense of secu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ree laws of securit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olutely secure systems do not ex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lve your vulnerability, you have to double your expendi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yptography is typically bypassed, not penetr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-90: Zero Knowledge, secure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-90: Zero Knowledge, secure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-95: Diff&amp;lin cryptanalysis, quantum co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-90: Zero Knowledge, secure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-95: Diff&amp;lin cryptanalysis, quantum co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5-00: Side channel attacks, elliptic cur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-90: Zero Knowledge, secure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-95: Diff&amp;lin cryptanalysis, quantum co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5-00: Side channel attacks, elliptic cur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0-05: ?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asic schemes: Major tren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4080" y="1690200"/>
            <a:ext cx="7948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asic schemes: Major tren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84080" y="1690200"/>
            <a:ext cx="7948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key cryptography: DES out, AES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asic schemes: Major tren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3720" y="1690200"/>
            <a:ext cx="8137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key cryptography: DES out, AES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key cryptography: RSA steady, EC improving, faster schemes increasingly risky and less appealing. Should not be used for long term secu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asic schemes: Major tren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84080" y="1690200"/>
            <a:ext cx="81662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key cryptography: DES out, AES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key cryptography: RSA steady, EC improving, faster schemes increasingly risky and less appealing. Should not be used for long term secu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um schemes: the wild c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exp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exp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underregu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y is cent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4152960" y="3514680"/>
            <a:ext cx="1571400" cy="1457280"/>
          </a:xfrm>
          <a:prstGeom prst="ellipse">
            <a:avLst/>
          </a:prstGeom>
          <a:solidFill>
            <a:srgbClr val="cce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cry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3840" y="3562200"/>
            <a:ext cx="1276200" cy="128592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th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6360" y="3591000"/>
            <a:ext cx="1438200" cy="139068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2276640"/>
            <a:ext cx="1276200" cy="119988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&amp;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6240" y="2371680"/>
            <a:ext cx="1247760" cy="120024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29360" y="5029200"/>
            <a:ext cx="1238040" cy="121932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i-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76680" y="5048280"/>
            <a:ext cx="1228680" cy="117144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exp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underregu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be guided by an ethical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50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exp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underregu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be guided by an ethical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be complemented by legal measu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ic status re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ach of the six major subareas I’ll summariz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jor achievements so f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ong and weak points, major 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15ea"/>
                </a:solidFill>
                <a:latin typeface="Comic Sans MS"/>
              </a:rPr>
              <a:t>A 1-10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ory of crypt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l defined primitives &amp; definitions of 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l understood relationships between no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ep connections with randomness &amp;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autiful mathematical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ghly developed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llent design t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: reduce dependence on assu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key encryption and signature sc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9214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SA, DH, D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 modular arithmetic, EC, other ideas(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igorous cryptanalytic re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llent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panding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s: Break a major scheme, make a new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ret key cryptography – block ciph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2120" y="1676160"/>
            <a:ext cx="83311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, AES, modes of op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ial and linear crypt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ood cryptanalytic t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sonable choice of primi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ny good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: Connect strong theory with strong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ret key cryptography – stream ciph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4560" y="1676160"/>
            <a:ext cx="777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feedback shift regis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t correlation attacks, algebraic atta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mited cryptanalytic t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arrow choice of primi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ny insecure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: Improve weak theory and weak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080" y="266400"/>
            <a:ext cx="7962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oretical Cryptographic protoc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ro knowledge interactive proof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 multiparty compu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 anything is doable and prov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ny g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oretical protocols are too s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: Make the strong theory practi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actical Cryptographic protoc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20880" y="1676160"/>
            <a:ext cx="7702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ad-hoc id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s in the random oracle model (RO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ly expanding body of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ts of buggy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sonable design primi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roving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s: incorporate side channel attacks, R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ic prediction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ES will remain secure for the forseeable fu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PK schemes and key sizes will be successfully attacked in the next few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 will be invisibly every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ulnerabilities will be visibly every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 research will remain vigorous, but only its simplest ideas will become practically usef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crypto security will remain a m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y is f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s lots of media att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acts hack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full of delightful id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s as an excellent educational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as a thrilling 25 year jour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est is yet to c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anks to everyon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geography of cryptograph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ly started in the 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geography of cryptograph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ly started in the 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ed by Euro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geography of cryptograph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ly started in the 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ed by Euro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rapidly expanding in As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Administrator</cp:lastModifiedBy>
  <cp:lastPrinted>1998-08-17T01:08:49Z</cp:lastPrinted>
  <dcterms:modified xsi:type="dcterms:W3CDTF">2003-11-29T13:12:37Z</dcterms:modified>
  <cp:revision>365</cp:revision>
  <dc:subject/>
  <dc:title>RSA: 1977--1997 and beyond</dc:title>
</cp:coreProperties>
</file>