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569-9765-49D2-A504-8C2C9926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F04-B729-47B8-99A9-6E9A53FA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20A-D3CB-41CA-835C-0D22A0A4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978-1F25-40F1-AE39-C0F5478C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4475-DD5C-4795-B40D-CB36C5D0C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9E94-6E63-43FB-B2A5-2C16FB4C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416B-4536-4338-9834-0391D5A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26F3-7D8C-42B9-9D59-274CFCBF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63C3-7B2C-4489-BEC3-0026AB9A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821C-E317-4492-B489-4584FDB2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3A30-384A-4994-B5A1-92CD336D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ED8-2362-4C6D-AA0D-C0C682A3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940B-7614-430F-BDB1-0B005245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F873-C106-4CEC-8B44-07EB1471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BB7C-1B3A-4B2B-8A8A-2E8769BD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6938-7CA4-4867-AE40-CFBE7809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C919-29CA-4760-B30F-8AB1864B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333-7016-46C5-B04F-642BCFB5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D61-3494-4AF2-82BE-46B2D3B7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6F7-1573-4CFD-8CE2-BF451191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FAC-BE41-4FD0-9CEA-48BD854A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E5C-D455-42FD-BF36-CE073811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477-F97F-4F7A-823C-0EF00F9F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133C-A9C0-45D8-8207-ED212D1B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8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65A5-7632-4B56-83A6-84008CD910CB}" type="slidenum">
              <a:rPr b="0" lang="he-IL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1515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4F34-3F8C-49D5-B099-6D49DBAB7B44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1515e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1520" y="167328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RYPTOGRAPHY: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ATE OF THE SCIENCE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SIACRYPT 2003 invited tal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7240" y="3619080"/>
            <a:ext cx="7770960" cy="28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i Shami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puter Science Dep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Weizmann Institut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srae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85406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ryptography as a scientific discip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58320" y="1333080"/>
            <a:ext cx="77122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 thriving as a scientific area of resear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ught at most major universi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acts many excellent stud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ssed at many confer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&gt;25 in the next   6 month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shed in hundreds of papers (e.g., EPRI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conferences have &gt;500 attende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jor trade shows have &gt;10,000 attende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d the ultimate seal of approval from the general CS community (the Turing award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ould we rename the field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29960" y="1459080"/>
            <a:ext cx="7629480" cy="44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graphy means “secret wri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naming of the fiel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olog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ryptograp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analy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ould we rename the field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9960" y="1459080"/>
            <a:ext cx="7629480" cy="44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graphy means “secret wri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naming of the fiel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olog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ryptograp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analy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terms have problematic cono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research subfields do not deal with the encryption or decryption of secret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ould we rename the field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29960" y="1530000"/>
            <a:ext cx="7629480" cy="51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graphy means “secret writin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official naming of the field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olog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ryptograph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ryptanaly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terms have problematic cono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research subfields do not deal with the encryption or decryption of secret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propose to call the broader fiel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dversity Theor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cryptolog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other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math to phy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3235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ed scientific fields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30320" y="163332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LD COMBINA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ability and stat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3235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ed scientific fields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LD COMBINA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ability and stat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geb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EW COMBINA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gnal processing (in steg, fingerprinting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ics (in side channel attack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hysics (in quantum computers and crypto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math to phy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theory to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 unites Theory &amp; practic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80992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actical theor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using abstract math tools in crypt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ving the security of real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developing new cryptograph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oretical practi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developing new notions of security, complexity, logics, and randomnes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urning cryptography 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w challenges in cryptography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yment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llular telepho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-Fi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FID ta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M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art to sci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math to phys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theory to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political to legal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56296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ic misconce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80992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policy makers: crypto is dangerous, b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weak crypto is not a solu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controls can’t stop the inevi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researchers: A provably secure system is secure, b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proven false by indirect atta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can be based on false assump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requires careful choice of parame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implementers: Cryptography solves everything, bu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only basic ideas are successfully deploy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only simple attacks are avoi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bad crypto can provide a false sense of secu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ree laws of security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solutely secure systems do not ex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lve your vulnerability, you have to double your expendi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yptography is typically bypassed, not penetr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-90: Zero Knowledge, secure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-90: Zero Knowledge, secure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-95: Diff&amp;lin cryptanalysis, quantum co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-90: Zero Knowledge, secure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-95: Diff&amp;lin cryptanalysis, quantum co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5-00: Side channel attacks, elliptic cur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yptography: A rapidly moving fie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7316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7000"/>
          </a:bodyPr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5-80: Public key cryptography, basic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-85: Theoretical foundations, new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5-90: Zero Knowledge, secure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-95: Diff&amp;lin cryptanalysis, quantum com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5-00: Side channel attacks, elliptic cur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-195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0-05: ??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asic schemes: Major tren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4080" y="1690200"/>
            <a:ext cx="7948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asic schemes: Major tren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84080" y="1690200"/>
            <a:ext cx="7948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key cryptography: DES out, AES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asic schemes: Major tren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83720" y="1690200"/>
            <a:ext cx="8137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key cryptography: DES out, AES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key cryptography: RSA steady, EC improving, faster schemes increasingly risky and less appealing. Should not be used for long term secu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asic schemes: Major tren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84080" y="1690200"/>
            <a:ext cx="81662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 key cryptography: DES out, AES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 key cryptography: RSA steady, EC improving, faster schemes increasingly risky and less appealing. Should not be used for long term secur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ntum schemes: the wild c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exp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exp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underregu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y is cent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4152960" y="3514680"/>
            <a:ext cx="1571400" cy="1457280"/>
          </a:xfrm>
          <a:prstGeom prst="ellipse">
            <a:avLst/>
          </a:prstGeom>
          <a:solidFill>
            <a:srgbClr val="cce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alligraphy"/>
              </a:rPr>
              <a:t>cry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3840" y="3562200"/>
            <a:ext cx="1276200" cy="128592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th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t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86360" y="3591000"/>
            <a:ext cx="1438200" cy="139068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nd c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2276640"/>
            <a:ext cx="1276200" cy="119988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&amp;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6240" y="2371680"/>
            <a:ext cx="1247760" cy="120024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29360" y="5029200"/>
            <a:ext cx="1238040" cy="121932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i-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76680" y="5048280"/>
            <a:ext cx="1228680" cy="1171440"/>
          </a:xfrm>
          <a:prstGeom prst="ellipse">
            <a:avLst/>
          </a:prstGeom>
          <a:solidFill>
            <a:srgbClr val="99ff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exp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underregu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be guided by an ethical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7960" y="188640"/>
            <a:ext cx="8730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me of my controvertial positions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7360" y="1793520"/>
            <a:ext cx="8131320" cy="50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applied in practi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d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overexpo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not be underregu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be guided by an ethical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ity should be complemented by legal measu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ic status re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ach of the six major subareas I’ll summariz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jor achievements so f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rong and weak points, major 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515ea"/>
                </a:solidFill>
                <a:latin typeface="Comic Sans MS"/>
              </a:rPr>
              <a:t>A 1-10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ory of cryptograp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l defined primitives &amp; definitions of 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ll understood relationships between no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ep connections with randomness &amp;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autiful mathematical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ghly developed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llent design t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: reduce dependence on assump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blic key encryption and signature schem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9214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SA, DH, DS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 modular arithmetic, EC, other ideas(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igorous cryptanalytic re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cellent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xpanding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s: Break a major scheme, make a new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ret key cryptography – block ciph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2120" y="1676160"/>
            <a:ext cx="83311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, AES, modes of op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ial and linear crypt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Good cryptanalytic t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sonable choice of primi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ny good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: Connect strong theory with strong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ret key cryptography – stream ciph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4560" y="1676160"/>
            <a:ext cx="777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ear feedback shift regis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st correlation attacks, algebraic attac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imited cryptanalytic to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arrow choice of primi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ny insecure sche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: Improve weak theory and weak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0080" y="266400"/>
            <a:ext cx="7962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oretical Cryptographic protoc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ro knowledge interactive proof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re multiparty compu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most anything is doable and prov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ny g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oretical protocols are too s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: Make the strong theory practi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actical Cryptographic protoco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20880" y="1676160"/>
            <a:ext cx="7702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ad-hoc id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ofs in the random oracle model (RO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ly expanding body of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ots of buggy protoco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Reasonable design primi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mproving the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allenges: incorporate side channel attacks, R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5ea"/>
                </a:solidFill>
                <a:latin typeface="Comic Sans MS"/>
              </a:rPr>
              <a:t>Final grade: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ic prediction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ES will remain secure for the forseeable fu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PK schemes and key sizes will be successfully attacked in the next few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 will be invisibly every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ulnerabilities will be visibly everywhe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pto research will remain vigorous, but only its simplest ideas will become practically usefu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crypto security will remain a m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yptography is fu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ts lots of media atten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acts hack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full of delightful id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s as an excellent educational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5787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was a thrilling 25 year jour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best is yet to co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anks to everyon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yptography: major tren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secret to publ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m national to internat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geography of cryptograph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ly started in the 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geography of cryptograph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ly started in the 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ed by Euro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geography of cryptograph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4720" y="1676160"/>
            <a:ext cx="7454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blicly started in the 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ed by Europ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1515e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rapidly expanding in As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Ronald L. Rivest</dc:creator>
  <dc:description/>
  <dc:language>en-US</dc:language>
  <cp:lastModifiedBy>Administrator</cp:lastModifiedBy>
  <cp:lastPrinted>1998-08-17T01:08:49Z</cp:lastPrinted>
  <dcterms:modified xsi:type="dcterms:W3CDTF">2003-11-29T13:12:37Z</dcterms:modified>
  <cp:revision>365</cp:revision>
  <dc:subject/>
  <dc:title>RSA: 1977--1997 and beyond</dc:title>
</cp:coreProperties>
</file>