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336-566E-4342-9E9D-9D46017A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7E4-7CDF-4113-B565-6207BBA9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3F44-D374-4B7C-808B-3F82B2EA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E1D-F26D-40E7-867B-30A39F76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C908-6BF2-4F70-853A-3CCE588B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3158-267B-40C2-B21E-178F185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0684-DEF8-4E99-ACDA-F1E463EF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A31B-CBFA-4001-A45C-522F5341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E158-5F53-4799-9BED-B0930B41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65FD-81AE-494D-8334-2C1F6A1F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4476-AA3F-4DCC-8BEE-2F62AD52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7E3-E1D1-42D3-86D3-1FEE458B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A189-0945-4561-AEB7-4596BBCA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0848-4AE1-4E0F-B961-D75F3F43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8B0E-AF17-4006-AEA9-DB941DB8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D1E4-7173-4944-A3AC-E10D78CD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5924-2A3F-45F7-984C-C61191E7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9CE-0403-439A-924A-20210B60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3DD-7F94-4986-AF68-A68401CD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1105-7731-4523-AD21-C8255DD2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BB5-BA2E-4F83-A296-A201D13B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482-935D-44AF-A905-7BB0D1F9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F7A-F249-41A8-993D-4212A89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970-D51F-4834-8F31-C0FA206C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BF00-8665-4C7B-924A-E14B37989B88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0A81-E3FE-4C1B-9E83-53EA4BE8B06C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333399"/>
                </a:solidFill>
                <a:latin typeface="Tahoma"/>
              </a:rPr>
              <a:t>AsiaCrypt 2003- Program Committee Report</a:t>
            </a:r>
            <a:r>
              <a:rPr b="0" lang="zh-TW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 Sung Lai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v.30~Dec.4,2003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ipei, Tai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~Thank You~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i Sung Laih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3B24-2831-49FA-8129-C1730FCCA6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Preparations for Asiacrypt 2003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.15,2002: AC’03 website was onl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.17,2003: AC’03 logo was desig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 15: Online submission was up and run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22: Deadline for sub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26: Review to st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y 13: All review reports were recei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y 15~29: Discussion among PC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gust 1: Send notifications to auth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gust 17: registration star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.20: The final version of proceedings was sent to Springer-Verla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4F7-00EF-4054-AA15-DA4DD4167A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Program Committee Member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201780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92C-AEA9-423D-B0C5-8D16BCECBA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Submission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88 submissions (26 countr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accepted   (15 countr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32 papers was merg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 % acceptanc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C45-369C-4E3A-ADBF-24448F855E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Submissions by Continent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ia- 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- 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urope- 5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1E79-982E-47E4-B5AC-79A732441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Submissions by Country (Total:26)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stralia-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na-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ng Kong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dia-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pan-2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rea-2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laysia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gapore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iwan-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ada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A-2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gladesh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lgium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razil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nmark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nland-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ance-1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rmany-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ran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rael-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edonia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and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eden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zerland-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K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ugoslavia-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248520"/>
            <a:ext cx="5932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D978-3D09-4802-8A49-1BADE57D5D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ccepted Papers from 15 countrie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925640"/>
            <a:ext cx="6323040" cy="546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91CA-2672-4E53-ACED-15B164D08C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Review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7 reviewers from 17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submissions and reviewing process were anonymou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per was reviewed by at least 3 pc memb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pers submitted by one of the pc members were reviewed by 6 memb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3 external revie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7CE-55EB-418E-BD94-9F0EAAF52A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Revisions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Out of 188 submissions, 45 had revision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1 papers were revised 1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 papers were revised 2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 papers were revised 3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aper was revised 4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papers were revised 5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aper was revised 6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aper was revised 7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apers were revised 9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EEC-D3F5-47E3-99F8-1D741F081D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02:40:18Z</dcterms:created>
  <dc:creator>annie</dc:creator>
  <dc:description/>
  <dc:language>en-US</dc:language>
  <cp:lastModifiedBy>cmy</cp:lastModifiedBy>
  <dcterms:modified xsi:type="dcterms:W3CDTF">2003-11-30T13:23:44Z</dcterms:modified>
  <cp:revision>112</cp:revision>
  <dc:subject/>
  <dc:title>Asiacrypt 2003</dc:title>
</cp:coreProperties>
</file>